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15221-13F5-4CFA-B619-3521EE306A18}" type="slidenum">
              <a:rPr b="0" lang="lv-LV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HIV Rīgā 491 uz 100 tūkstošiem iedzīvotāj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2006.g – 85117 (HIV+ 29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2007.g – 79279 (HIV+ 3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2008.g – 72444 (HIV+ 35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2009.g – 59331 (HIV+ 2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2010. gadā izmaksas uz vienu pacientu gada laikā par visbiežāk izmantojamo pirmās izvēles terapiju ir 3170 LV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  <a:ea typeface="Arial"/>
              </a:rPr>
              <a:t>Venecuēla EFV/AZT/3TC – 200 USD; LV – 264 LV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A70-D189-4ABE-9E1B-5E526FB2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488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8000"/>
            <a:ext cx="799488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A83-44E0-41B5-A943-C319D1B9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4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AC2-CECD-4C31-BFEC-6F5B34E6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75248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2760" y="175248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800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397800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2760" y="397800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867-27CE-4126-9794-820F6BFF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90A8-504D-4C4E-AA0E-E31DD1CE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48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6765-7544-42A4-9C94-9B5227FD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48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4D3D-08DC-4932-979E-38E09CB7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CB77-B506-4A65-B70E-FF799754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BC35-39F1-4E0D-BA23-2A53AC0F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560" y="263160"/>
            <a:ext cx="79948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2B98-165E-436A-86B3-1BC14AA1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A649-B147-4E65-A580-A869CD4A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48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E30-BC89-4B0E-920E-C87E360E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34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0351-84E6-4CBE-BAC5-2E2621DB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8000"/>
            <a:ext cx="799488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7675-1F66-4881-8AE7-330080CC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488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8000"/>
            <a:ext cx="799488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07D5-84A2-41F7-9579-DBD3C4FA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34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B216-A282-4CF8-A86B-51EEC812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9880" y="175248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2760" y="175248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800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9880" y="397800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2760" y="3978000"/>
            <a:ext cx="257400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B4EA-EBE4-4823-8907-1761D2E9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48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6C6-5CE1-41AF-926A-307F653C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0EC-1178-4409-AE5C-676F4A7E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845-48BB-4DAA-BD34-02D344E8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560" y="263160"/>
            <a:ext cx="79948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7D3-5619-4753-B292-CA069CBE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DBC-E6C0-4605-AD94-2C8A0AA7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440" y="397800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861-3211-4EC3-BCFD-1B373172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440" y="1752480"/>
            <a:ext cx="39013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8000"/>
            <a:ext cx="799488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C65-9A53-489F-9035-9022997D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263160"/>
            <a:ext cx="79948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79948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74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74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FD53C-1657-4EF0-8E1B-1408479167AF}" type="slidenum"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8583E8-A720-4423-9C77-6125F0619BF6}" type="slidenum">
              <a:rPr b="0" lang="lv-LV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pvienibahiv.lv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Verdana"/>
              </a:rPr>
              <a:t>Biedrības “Apvienība HIV.LV” darbība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Verdana"/>
              </a:rPr>
              <a:t>HIV infekcijas ārstēšanas pieejamības Latvijā jom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640" y="4869000"/>
            <a:ext cx="812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leksandrs Molokovsk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Verdana"/>
              </a:rPr>
              <a:t>Prezentēšanai HIV infekcijas, tuberkulozes un seksuālās transmisijas infekciju izplatības ierobežošanas koordinācijas komisijā 2010.gada 19. maij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69560"/>
            <a:ext cx="803124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Baltijas valstī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66640" y="1180800"/>
            <a:ext cx="799632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Profilakses programmām riska grupās (ieskaitot kaitējuma mazināšanas programmas) jākļūst par prioritāti, jo HIV profilakse izmaksā daudz lētāk nekā HIV infekcijas ārstēšana un cīņa ar tās sekā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HIV infekcijas ārstēšana jānozīmē vadoties vienīgi pēc medicīniskiem rādītājiem, kas balstīti uz PVO Eiropas reģiona Klīniskajiem protokoliem, jo HIV infekcijas ārstēšana ir arī labākā profilak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Baltijas valstī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66640" y="1655640"/>
            <a:ext cx="7996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Lai maksimāli efektīvi izmantotu esošos resursus, nodrošināt pacientus ar viņiem draudzīgiem integrētiem pakalpojumi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Tā kā valstu iekšēji pieejamie resursi ir mazinājušies, vērsties pie starptautiskām struktūrām un fondiem ar lūgumu finansiāli atbalstīt ar HIV dzīvojošu cilvēku profilakses, ārstēšanas, aprūpes un atbalsta program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Baltijas valstī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Likumos par pašvaldībām pienākumu mazināt HIV infekcijas izplatību to teritorijās iekļaut kā valstisku funkci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560" y="260280"/>
            <a:ext cx="79963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Daži pasākumi TB/HIV jom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66640" y="1706400"/>
            <a:ext cx="79963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Nacionālās programmas pieņemšana, lai ierobežotu tuberkulozes izplatību, aktualizējot tuberkulozes profilakses, diagnosticēšanas un terapijas stratēģiju HIV/AIDS pacientu vid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Speciālas nacionālās metodiskās un kontroles nodaļas izveidošana (uz Latvijas Infektoloģijas centra bāzes, ne vairāk kā 3 cilvēki), lai īstenotu prettuberkulozes darbības pārraudzību valst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260280"/>
            <a:ext cx="79963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Daži pasākumi TB/HIV jom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66640" y="1796760"/>
            <a:ext cx="79963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Tuberkulozes profilakses un testēšanas pasākumu integrācija esošajos HIV profilakses un testēšanas mobilajos punk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Brīvprātīgu konsultāciju un HIV noteikšanas testu ieviešana prettuberkulozes dienestu darb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260280"/>
            <a:ext cx="79963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Daži pasākumi TB/HIV jom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66640" y="1661760"/>
            <a:ext cx="79963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Palīdzības sniegšana prettuberkulozes programmām, lai sagatavotu speciālistus HIV infekcijas jomā un izstrādātu rekomendācijas, kā pārzināt ar tuberkulozi slimos HIV inficē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Specializēta tuberkulozes sākotnējā profilakse starp HIV inficētaji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Prettuberkulozes programmu un ar HIV infekcijas programmu darbības koordinēša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560" y="446040"/>
            <a:ext cx="79963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Verdana"/>
              </a:rPr>
              <a:t>Nodrošināsim pilnvērtīgas dzīves iespējas arī inficētiem ar HIV!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66640" y="1796760"/>
            <a:ext cx="79963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Biedrības “Apvienība HIV.LV” mājaslapa </a:t>
            </a:r>
            <a:r>
              <a:rPr b="0" lang="lv-LV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apvienibahiv.l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16_05_2010" descr=""/>
          <p:cNvPicPr/>
          <p:nvPr/>
        </p:nvPicPr>
        <p:blipFill>
          <a:blip r:embed=""/>
          <a:stretch/>
        </p:blipFill>
        <p:spPr>
          <a:xfrm>
            <a:off x="3378240" y="2046240"/>
            <a:ext cx="243828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172800"/>
            <a:ext cx="7999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Pētījumu pusgad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- "Garām mērķim": Ārstēšanas pieejamība cilvēkiem, kas dzīvo ar HIV/AIDS Latvij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- Situācijas izpēte tuberkulozes ārstēšanā inficētajiem ar HIV Latvij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- AIDS un psihiskā veselīb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- Alternatīvā atskaite UNG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CITI PROJEKTI AR SITUĀCIJAS  IZPĒTES  ELEMENTI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66640" y="1796760"/>
            <a:ext cx="79963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"Zināšanas kā  HIV infekcijas ierobežošanas pamats"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(ar ieslodzīto testēšanu uz HIV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"Sadarbība un veselība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(ar ieslodzīto testešanu uz HIV/HCV/T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Valdībai HIV ārstēšanas jom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Jānodrošina atbilstoši līdzekļi visām prioritātēm un aktivitātēm, kas ir uzskaitītas Cilvēka imūndeficīta vīrusa (HIV) infekcijas izplatības ierobežošanas programmā 2009.–2013. gad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Nepatentēto antiretrovirālo medikamentu iegādei un izmantošanai jākļūst par prioritāti, lai ievērojami samazinātu ārstēšanas izmaksas uz vienu pacien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Rekomendācijas par ārstēšanas pamatprincipi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Veselības Ministrijai vajadzētu pārraudzīt procesu, kurā nacionālās HIV infekcijas ārstēšanas vadlīnijas tiek pārskatītas, lai tās atbilstu vislabākajiem internacionālajiem standarti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Veselības Ekonomikas centram vajadzētu veikt pētījumu par pašreizējo ārstēšanas režīmu efektivitā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400" spc="-1" strike="noStrike">
                <a:solidFill>
                  <a:srgbClr val="000000"/>
                </a:solidFill>
                <a:latin typeface="Verdana"/>
              </a:rPr>
              <a:t>Veselības Ministrija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Verdana"/>
              </a:rPr>
              <a:t>Jāuzņemas vadība, lai nodrošinātu, ka visas ieinteresētās puses vienotos par vienotu, skaidru vērtību kopumu, prioritātēm un principiem HIV/AIDS jom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Verdana"/>
              </a:rPr>
              <a:t>Jāpilda Ministru prezidenta Rīkojums katru gadu izskatīt nevalstisko HIV/AIDS organizāciju līdzdalības iespējas ar atbilstošu finansējumu līdzdarbības līgumu ietva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Veselības Ministrij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66640" y="1703160"/>
            <a:ext cx="799632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Jāizskata iespējas piešķirt līdzekļus integrētai narkotiku ārstēšanas attīstīšanai un kaitējuma mazināšanai, tā palīdzot uzlabot intravenozo narkotiku lietotāju pieeju antiretrovīrusu terapij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Sadarbībā ar NVO ir jāizstrādā stratēģijas, kas ļautu sasniegt grūti pieejamas iedzīvotāju grupas - intravenozo narkotiku lietotājus un komercseksa pakalpojumu sniedzēj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Veselības Ministrij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66640" y="1796760"/>
            <a:ext cx="79963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Izveidot vienotu apmācību sistēmu visiem veselības aprūpes specialistiem, kas ļautu uzlabot HIV infekcijas ārstēšanu valst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560" y="169560"/>
            <a:ext cx="79963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800" spc="-1" strike="noStrike">
                <a:solidFill>
                  <a:srgbClr val="000000"/>
                </a:solidFill>
                <a:latin typeface="Verdana"/>
              </a:rPr>
              <a:t>Saeima 17.05.2010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66640" y="1796760"/>
            <a:ext cx="79963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Kontrolēs valdībai doto uzdevumu strādāt pie vienotā Baltijas valstu iepirkuma (vakcīnas, HIV/AIDS zāles, onkoloģijas zāles, TB zāles; iespējams vienots kompensējamo zāļu saraks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Par profilaksi - klusums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8:35:55Z</dcterms:created>
  <dc:creator>Marcis</dc:creator>
  <dc:description/>
  <dc:language>en-US</dc:language>
  <cp:lastModifiedBy>Marcis</cp:lastModifiedBy>
  <dcterms:modified xsi:type="dcterms:W3CDTF">2010-05-16T10:32:37Z</dcterms:modified>
  <cp:revision>4</cp:revision>
  <dc:subject/>
  <dc:title>Garām mērķim. HIV infekcijas ārstēšanas pieejamība Latvijā</dc:title>
</cp:coreProperties>
</file>