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1.wmf" ContentType="image/x-wmf"/>
  <Override PartName="/ppt/media/image27.wmf" ContentType="image/x-wmf"/>
  <Override PartName="/ppt/media/image26.wmf" ContentType="image/x-wmf"/>
  <Override PartName="/ppt/media/image11.wmf" ContentType="image/x-wmf"/>
  <Override PartName="/ppt/media/image6.wmf" ContentType="image/x-wmf"/>
  <Override PartName="/ppt/media/image3.png" ContentType="image/png"/>
  <Override PartName="/ppt/media/image33.png" ContentType="image/png"/>
  <Override PartName="/ppt/media/image16.wmf" ContentType="image/x-wmf"/>
  <Override PartName="/ppt/media/image12.wmf" ContentType="image/x-wmf"/>
  <Override PartName="/ppt/media/image4.png" ContentType="image/png"/>
  <Override PartName="/ppt/media/image34.png" ContentType="image/png"/>
  <Override PartName="/ppt/media/image17.wmf" ContentType="image/x-wmf"/>
  <Override PartName="/ppt/media/image7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30.png" ContentType="image/png"/>
  <Override PartName="/ppt/media/image31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13.jpeg" ContentType="image/jpeg"/>
  <Override PartName="/ppt/media/image24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8D6B-94D8-4C7A-A7A6-D89FBB4A792A}" type="slidenum">
              <a:rPr b="0" lang="pl-PL" sz="1200" spc="-1" strike="noStrike">
                <a:solidFill>
                  <a:srgbClr val="c050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godność występuje wtedy, gdy twoje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ał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zmienie głosu i słowa przystają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siebi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yli przekazują tę samą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adomoś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edy jesteś postrzegany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o osoba szczera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teś obdarzony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ufani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uczem do osiągnięcia tego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WDZIWIE KORZYSTNE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AWIENIE (czyli trzeba być szczerym wobec tej osob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B3F4-192F-4087-A9BC-D5CB39B14356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BF39-C5BA-43D1-A311-E4979CA8A4D4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ane poniżej zdania wypowied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 złością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udzeni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zaskoczeniem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kieteryjnie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est późno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ałem dość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ójrz na mni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zie się urodziłeś?”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auważ, jak język ciała, wyraz twarzy i szybkość oddech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 łączą się ze sobą w różnych stanach emocjonalny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ff"/>
                </a:solidFill>
                <a:latin typeface="Calibri"/>
                <a:ea typeface="Times New Roman"/>
              </a:rPr>
              <a:t>Bądź wyczulony na niezgodności brzmienia głosu i gestów u innych. Zwróć uwagę na to, w jaki sposób tę niezgodność odczuwasz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Poproś przyjaciela o wysłuchanie wypowiadanych przez ciebie kwestii. Pozwól mu/jej zgadnąć, które z czterech wymienionych uczuć wyraziłeś. Jeśli nie jest to dla niego/niej oczywiste, musisz tak długo trenować, aż nie będzie co do tego żadnych wątpliwośc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D74F-14F9-4C8E-B957-A83A720701A5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3F43-4D76-45C3-99BF-E74C7EC350C4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39E1-0834-440D-9A36-E6DD77CB4C81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F4A6-7AC1-4A94-A65B-358D2503D792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8DD8-62E1-40FD-8209-A7B58764222D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AAE7-CA88-446E-A84F-18B7C782A619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938D-AAD1-4DEE-AC84-2E63C25924F5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8D4C-DBCF-4825-BAAB-75C295714B6A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0E3A-84CE-45E2-9341-C06A1D4EBF2B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F62E-4FDA-4AE4-9E5B-395C8E5CC8B5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89A9-D123-4276-9B1D-2B871248B2BE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B0B2-B7A7-42DA-9C17-0E18C634D78B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3110-734C-40B6-B437-3D4E87139707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Dažas pazīmes var sakrist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Cilvēks kurš “šaudās” ar acīm, vainu melo vai ir vienkārši nervozs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Lai pilnvērtīgi saprastu, ko cilvēks jū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 tev jāņem vērā sarunas kontekst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tiesībā nav likuma, kas katrai ķermeņa kustībai liktu sakrist ar kādu no emocijām, taču ir zināmas pazīmes, ko var saskatīt lielākajai cilvēku daļa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48EE-CE1F-4D2E-8517-B4C076AF39A0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Emocijas ir ķīmiska un nervu reakcija smadzenē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Izmantojot sejas izteiksmes, ķermeņa valodu, balss toni, netiešu un tiešu uzvedību, mēs sajūtam otra jūtas un neapzināti reaģējam ar mūsu pašu emocijām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piemēram kā smiekli izplatās pa telpu un uzmundrina visus, kas tajā atroda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Emocijas veidojas  kombinācijā , ārējie  stimuli, subjektīvie pieredzes  stimuli, jebkāda uzvedība, rezultāts un mūsu iekšējā fizioloģiskā reakcija. Smaids, rokas pieskāriens, pārliecinoša balss, apskāviens -  visas šīs darbības var stimulēt emocijas. Klausoties vecās dziesmas var izraisīt emocijas, kas saistītas ar pagātni (piemēram, dejas ar vidusskolas mīļoto, vai turot savu jaundzimušo pirmo reizi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Emocijas ir ķīmiska un nervu reakcija smadzenē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Izmantojot sejas izteiksmes, ķermeņa valodu, balss tonis, netiešu un tiešu uzvedību, mēs sajūtam otra jūtas un neapzināti reaģējam ar mūsu pašu emocijām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piemēram kā smiekli izplatās pa telpu un uzmundrina visus, kas tajā atroda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Kad mūsu saspringtās emocijas nespēj atrast pret ko izpausties, laimes sajūta samazinās, izmisums pastiprinās, depresija pastiprinās, dusmas aug un iekšējās emocionālās vajadzības ir nepiepildīta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300" spc="-1" strike="noStrike">
                <a:solidFill>
                  <a:srgbClr val="000000"/>
                </a:solidFill>
                <a:latin typeface="Calibri"/>
              </a:rPr>
              <a:t>Ņemot vērā to, ka emocijām ir bioķīmisks raksturs, tās ietekmē fizisko, garīgo un psihosociālo veselību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ttp://www.hhnmag.com/hhnmag_app/jsp/articledisplay.jsp?dcrpath=AHA/PubsNewsArticle/data/040518HHN_Online_Clark&amp;domain=HHNMA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507A-57A1-4987-8015-5D50706811DA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19BE-C472-49F2-87E6-C830110C3D53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Nosaukum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Ātri fakti un jēdzieni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#29: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Reaģējot un pacienta emocijā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http://www.mywhatever.com/cifwriter/library/eperc/fastfact/ff29.htm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Autors(i)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Bruce Ambuel, PhD; David E. Weissman, MD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Ieklausies pacientā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Klausie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 Nepārtrauc pacientu, kamēr viņš runā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Pacienti un ģimenes, kas saskārās ar </a:t>
            </a:r>
            <a:r>
              <a:rPr b="1" i="1" lang="lv-LV" sz="600" spc="-1" strike="noStrike">
                <a:solidFill>
                  <a:srgbClr val="000000"/>
                </a:solidFill>
                <a:latin typeface="Calibri"/>
              </a:rPr>
              <a:t>dzīves beigu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 lēmumiem, vēlas iespēju izrunāt ar savu ārstu par to, ko viņi domā un jūt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Ieklausies sevī.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Ņem vērā pats savas emocija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Tavas skumja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dusma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nemier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bailes vai priek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bieži ir pirmais pierādījums, ka pacients vēlās izpaust svarīgu emocionālu ziņ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Izvairieties no ātras emociju izrādīšanas. Kā piemēram, ja jūs pamanāt, ka kļūstat dusmīgs, neatklājat to pacienta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izmantojat savas dusmas kā mājienu, lai noskaidrotu vairāk par to, ko saka pacients.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Atspoguļo domas, jūtas un uzvedīb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saka pacientam, ka tu klausies un tev viņš ir svarīg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tādā veidā dodot atļauju runāt par privātām, jūtīgām tēmā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ļauj pacientam ieklausīties savās domā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augstinot tādā veidā viņu pašapziņ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ļauj pacientam apstiprināt, izlabot, papildināt to, ko Jūs saprotat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#1: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Atspoguļot doma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Šī ir grūta izvēle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.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Es nevaru izlemt vai iet uz slimnīcu priekš nāves slimniekiem vai turpināt ar ķīmijterapij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"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Tev ir smaga izvēle starp </a:t>
            </a:r>
            <a:r>
              <a:rPr b="0" lang="lv-LV" sz="600" spc="-1" strike="noStrike">
                <a:solidFill>
                  <a:srgbClr val="cc0066"/>
                </a:solidFill>
                <a:latin typeface="Arial"/>
              </a:rPr>
              <a:t>slimnīcu nāves slimniekiem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un ķīmijterapij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"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#2: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Atspoguļot emocija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Es jūtos nomākts un izmisi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Laikam esmu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sakau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"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Tu jau kādu laiku jūties nomākts un izmisi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.."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#3: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Atspoguļot uzvedīb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cients sāk raudāt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Es redzu, ka tu raudi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.."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Apliecinājums un cieņa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cienti un ģimenes riskē, daloties ar savām emocijā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apstiprini un atbalsti pacient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iemēri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ldies, ka dalījies ar savām jūtām un domā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Man ir prieks, ka tu runā ar mani par savām jūtā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Es labāk daru savu darbu kā tavs ārsts, zinot kā tu jūties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Apkopo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ārfrāzē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ārfrāzē pacienta stāstu saviem vārdie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900" spc="-1" strike="noStrike">
                <a:solidFill>
                  <a:srgbClr val="000000"/>
                </a:solidFill>
                <a:latin typeface="Arial"/>
              </a:rPr>
              <a:t>Pretēji atspoguļošanai, pārfrāzēšana un kopsavilkums ietver pacienta stāstījuma interpretāciju un sakoncentrēšanu . Efektīvs komentārs ir īss, bet tajā pat laikā saglabā svarīgo nozīmi un emociju.</a:t>
            </a:r>
            <a:r>
              <a:rPr b="0" lang="lv-LV" sz="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lv-LV" sz="1300" spc="-1" strike="noStrike">
                <a:solidFill>
                  <a:srgbClr val="000000"/>
                </a:solidFill>
                <a:latin typeface="Arial"/>
              </a:rPr>
              <a:t>Mēs jau kādu laiku runājam par to, kā viss virzās uz priekš tev. Ļauj man apkopot to, ko tu esi teici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1300" spc="-1" strike="noStrike">
                <a:solidFill>
                  <a:srgbClr val="000000"/>
                </a:solidFill>
                <a:latin typeface="Arial"/>
              </a:rPr>
              <a:t> tad tu man varēsi pateikt vai es esmu tevi sapratis pareizi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....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Izveido plān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Dažkārt pacients vienkārši grib parunā par savām jūtā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citreiz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darbība ir svarīgāk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Noskaidro ko pacients sagaida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Kā es varu palīdzēt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Kam, ja tā ir, būtu jāmainās, tev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iedāvā tikšanās turpinājumus (atkārtotas vizītes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Es vēlētos tevi apraudzīt nākamajā nedēļā, paskatīties kā viss virzās uz priekšu. Tai pašā laikā, lūdzu, sazinies ar mani, ja tu vēlies parunāt pirms laika, labi?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39FC-42AA-4457-8CE7-74A457F023CF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Ieklausies sevī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Ņem vērā pats savas emocija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Tavas skumja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 dusma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 nemie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bailes vai priek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bieži ir pirmais pierādījums, ka pacients vēlās izpaust svarīgu emocionālu ziņu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Izvairieties no ātras emociju izrādīšanas. Kā piemēram, ja jūs pamanāt, ka kļūstat dusmīgs, neatklājat to pacienta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mantojat savas dusmas kā mājienu, lai noskaidrotu vairāk par to, ko saka pac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D685-3827-4DD1-B839-79C888F3E2FF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Atspoguļo domas, jūtas un uzvedību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pasaka pacientam, ka tu klausies un tev viņš ir svarīg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tādā veidā dodot atļauju runāt par privātām, jūtīgām tēmām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ļauj pacientam ieklausīties savās domā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paaugstinot tādā veidā viņu pašapziņu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ļauj pacientam apstiprināt, izlabot, papildināt to, ko Jūs saprota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1: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Atspoguļot doma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Šī ir grūta izvēl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..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Es nevaru izlemt vai iet uz slimnīcu priekš nāves slimniekiem vai turpināt ar ķīmijterapiju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 Tev ir smaga izvēle starp </a:t>
            </a:r>
            <a:r>
              <a:rPr b="0" lang="lv-LV" sz="1100" spc="-1" strike="noStrike">
                <a:solidFill>
                  <a:srgbClr val="cc0066"/>
                </a:solidFill>
                <a:latin typeface="Arial"/>
              </a:rPr>
              <a:t>slimnīcu nāves slimniekiem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 un ķīmijterapiju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"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2: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Atspoguļot emocija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 Es jūtos nomākts un izmisi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Laikam esmu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sakau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 Tu jau kādu laiku jūties nomākts un izmisi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.."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3: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Atspoguļot uzvedību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cients sāk raudā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Es redzu, ka tu raudi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.."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10B2-6EDD-43B3-9C74-8025D4A8160A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49E3-B16B-4946-B384-65F8B4202578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"</a:t>
            </a:r>
            <a:r>
              <a:rPr b="0" lang="lv-LV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ētījumi liecina, ka 60 līdz 70 procenti no tā, ko cilvēks vēlas teikts, ir atvasināts no neverbālās uzvedība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"[3]NB, p. 57-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bert Mehrabian, UCLA, 1967, “</a:t>
            </a:r>
            <a:r>
              <a:rPr b="0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coding of Inconsistent Communicatio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rard I. Nierenberg, </a:t>
            </a:r>
            <a:r>
              <a:rPr b="0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to Read a Person Like a Book.</a:t>
            </a:r>
            <a:r>
              <a:rPr b="0" i="1" lang="lv-LV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gesty otwartych rąk i nieskrzyżowanych ramion, delikatne poruszenia i pochylanie się ku drugiej osobie, mówiące ‘Jestem z tobą’, okazujące akceptację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zpięty płaszcz czy marynarka – eksponują serce (przepływ energii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wolne i rozważne gest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nie z rękami opartymi na biodrach i rozstawionymi stopami (entuzjazm i dobre chęc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ysunięcie ku przodowi gdy siedzisz na krześle – zainteresowan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ieskrzyżowane ramiona lub nogi – jesteś otwarty na wszelkie sugesti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krzyżowane, mocno przyciśnięte do ciała ręce (w odróżnieniu od luźno złożonych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ronne gesty – szybkie i nieuchwytne dla ok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kanie kontaktu wzrokowego i ustawienie ciała bok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iespokojne ruchy – mogą oznaczać zniecierpliwienie lub zdenerwowan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obne ges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gesty dłońmi; powyżej szyi: uśmiech, kontakt wzrokowy, uniesione brwi – zainteresowanie; przy przypadkowym spotkaniu – szybkie spojrzenie i opuszczenie oczu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</a:t>
            </a: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fam ci. Nie obawiam się ciebie’.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ydłużone spojrzenie wzmacnia pozytywny sygnał. </a:t>
            </a: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kinienie głową pod konie naszej kwestii – oczekujemy odpowiedzi. mile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łysk rozpozn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marszczone brwi, unikanie kontaktu wzrokowego; twarz bez wyrazu (martwa ryb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Ar terminu iepazīstināja antropolog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dward T. Hall 1966.[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6889-2218-4B81-A07C-882EEE21BEC9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061-9729-4DE2-A017-EB12F865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C0C-5DC9-4889-B040-C4C0CD18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351-FCB6-4CF1-9442-0F6C25C6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3A0-386D-49FB-8D22-F71BD993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4708-D075-4DBD-92E9-13A70102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98F6-39F3-4858-8C2B-41B60C99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6DA2-5C18-4549-8E12-CCF0D2C3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0094-D5A1-4B5D-8F74-0C4CB721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619D-CC23-4200-9E27-194D2BD6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AC9B-B46C-48A9-86A7-28794543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2CF2-4B32-48FF-93F9-37D79152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5F9-06EB-4AE4-8844-8B658F8C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183F-D174-45E0-9457-F8B83363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B478-91F7-408D-905E-9CBE3829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5935-2208-43DE-80CF-F38CFCB1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2688-9672-4B21-96EF-A757288F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978A-6F74-46FA-81F1-CF0A7864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31C4-EEA7-4A21-BF47-84CFD60F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4174D-F48F-40BC-9004-41ACA030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950EA-3247-44AE-BB27-A2F9CFFD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4D732-B3DE-4CEC-97E1-D5FE4243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7E8FC-626C-4400-B69E-F994ABF9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9C3-C96A-41A2-9F67-3EB3FCB2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76887-F9A8-49BF-A5BD-0A8DBC25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20CC-1169-4A3A-9D80-4C6AF8F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34BD9-6640-4740-B0BD-2AEEE66F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7A31F-60F6-4771-B06A-BED00058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4AFCD-1006-4E74-B604-0EE2FE05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47500-1D61-43FB-8926-FD72294D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45425-1F24-4ADF-AE10-932F2E47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CC0A2-8B45-4FCB-BB42-F1905396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45BDF-20B4-46A0-B9F1-231A6829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9AF46-0BF7-418F-AC89-AA075974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0F8-0B25-4F7D-930A-4C5651D2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4FAAF-F7DF-4B46-BED4-32E0AC9F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7B611-C0E9-4F9D-96C9-BFC50D7F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AAB79-B157-4F54-BF36-3CFCA43A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D5E89-4BD5-4493-AB04-0E92DA4F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39B56-6E7C-4945-826A-0AE0F428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50E04-8DC4-418D-A76C-3D57AEBE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CC4C5-529B-4BD0-8965-4D3F6152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D0B42-F787-43F7-87D5-7F23F39C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2D2AF-F001-40B6-94E5-7F7F1E8B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D05AA-6DD0-47A6-A9EA-0FF80946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13E-B8A4-4F9F-B99F-B39C5790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7DBC5-9C24-4057-AC12-37EE190E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77F14-F9C4-4B20-974E-F17FF603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29E8D-0599-4F2F-BA22-AF49BEE8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EA1F7-86BE-46DA-8993-0962FFB3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A34D0-DEB2-42C4-8D09-A5ECE365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6091A-FF7F-4B96-A142-173E52B5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ECEF7-1A3D-4E45-8647-17D13182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F3894-6884-4AED-95C7-1F9E11C4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864B5-DC11-46FC-B15D-A6CD8C9C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A7DF3-13FF-4BB3-AA7F-A27DA75A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DE2-7834-4544-B253-79597652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BB962-CC3F-46F9-8FB6-747CBA36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C20DD-CFFD-4FF2-88FC-CB6DF49C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DC552-D8AA-4484-BD25-D154DB23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FC72C-4458-4FD6-85E3-D57C6690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DA15C-C2C4-4CB2-AA3B-4FA1C25E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2218D-97E1-4881-AA79-DA86B80F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678A6-021C-4DD8-AC27-217C6354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43701-CB50-4B9F-9EFA-15FD832E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F8572-38FA-4F39-B570-EF0E7DA1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70DFC-4B4C-4A06-A91B-1F93ED9C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BC31-C82E-4ED8-A8FC-A1403D7C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CD6EC-43B6-42CE-B186-8C5F2DFC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9D44D-55D8-45D3-BEEB-D5F13F8C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CFA15-2E6E-4E35-B01B-5A8213B1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8D447-6C3C-4623-8189-EB13C35E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865D4-F3C7-4871-B9CD-FC2545E9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BD622-52CF-42EC-8CE7-54D8FEDF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A8FB8-F1E3-4844-B26B-D12B4640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A8164-6F3C-46F6-9576-BDF25EB5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0EA5D-9E5B-4C3B-9500-76CEE1FF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73CF9-F587-4683-B6B6-2DB36DCA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BCC-CFB3-42E2-84FD-77CFA048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A795D-22F8-4C31-8CAF-7BF5A56B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59183-40CA-4B3A-82D3-3A572F22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E528E-03CB-4B7B-BFAA-3BF1DF69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F7C78-EBC5-480D-8A9F-5CF60CD8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F92DA-6CB7-425E-990B-9FCC9C9F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5AF57-8795-4904-9748-F591FC35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B65EF-8116-4D1A-8015-0C69587A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694F6-B833-4BE1-84B5-9C7EA69C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97A7C-9B39-4740-BD6D-82569C39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FBF99-0955-4C13-8846-DEF74997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122-4D60-4F7F-97E0-755D2566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3CE52-D77B-4797-87F8-D756A50E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DD3B2-F981-4673-9956-7B713E20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DEDA5-7075-48C2-AEBF-7A894096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6DAE0-37A0-425F-991A-BE74D206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00941-4A0A-4CAD-A120-A9FDAE03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CCE3C-829A-4A72-BDFC-300A3BA9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E1B24-BD34-4ABB-A718-E3CF3551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3F5D-74B7-4516-B575-75218F05DA21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Łącznik prosty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6" name="Łącznik prosty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7" name="Trójkąt równoramienny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5" name="Prostokąt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6" name="Prostokąt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7" name="Prostokąt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EC7F-3C6A-484F-8C51-654434C531D1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ostokąt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90" name="Prostokąt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0624-2040-42EA-A0CA-8A5D91E6F708}" type="slidenum">
              <a:rPr b="0" lang="pl-P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Łącznik prosty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33" name="Łącznik prosty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34" name="Trójkąt równoramienny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35" name="Trójkąt równoramienny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2B99-1AD4-4EA2-8D35-477867348F3D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Łącznik prosty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78" name="Trójkąt równoramienny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0934-721C-4EC1-9075-0B811F3A3CED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Łącznik prosty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21" name="Łącznik prosty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22" name="Trójkąt równoramienny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64EC-A29D-4EB9-B427-6F416F38ECF7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Łącznik prosty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65" name="Trójkąt równoramienny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66" name="Prostokąt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121F-E270-437A-824C-3FCAA62FBB88}" type="slidenum">
              <a:rPr b="0" lang="pl-P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Łącznik prosty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09" name="Trójkąt równoramienny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10" name="Łącznik prosty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5600-A1EA-47BC-952C-A50CF283B51A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BD05584_"/>
          <p:cNvPicPr/>
          <p:nvPr/>
        </p:nvPicPr>
        <p:blipFill>
          <a:blip r:embed="rId1"/>
          <a:stretch/>
        </p:blipFill>
        <p:spPr>
          <a:xfrm>
            <a:off x="4572000" y="22860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3"/>
          <p:cNvSpPr/>
          <p:nvPr/>
        </p:nvSpPr>
        <p:spPr>
          <a:xfrm>
            <a:off x="304920" y="2286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6600" spc="-1" strike="noStrike">
                <a:solidFill>
                  <a:srgbClr val="000000"/>
                </a:solidFill>
                <a:latin typeface="Stencil"/>
              </a:rPr>
              <a:t>N</a:t>
            </a:r>
            <a:r>
              <a:rPr b="1" i="1" lang="en-US" sz="6600" spc="-1" strike="noStrike">
                <a:solidFill>
                  <a:srgbClr val="000000"/>
                </a:solidFill>
                <a:latin typeface="Stencil"/>
              </a:rPr>
              <a:t>E</a:t>
            </a:r>
            <a:r>
              <a:rPr b="1" i="1" lang="pl-PL" sz="6600" spc="-1" strike="noStrike">
                <a:solidFill>
                  <a:srgbClr val="000000"/>
                </a:solidFill>
                <a:latin typeface="Stencil"/>
              </a:rPr>
              <a:t>VERB</a:t>
            </a:r>
            <a:r>
              <a:rPr b="1" i="1" lang="lv-LV" sz="6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i="1" lang="pl-PL" sz="6600" spc="-1" strike="noStrike">
                <a:solidFill>
                  <a:srgbClr val="000000"/>
                </a:solidFill>
                <a:latin typeface="Stencil"/>
              </a:rPr>
              <a:t>L</a:t>
            </a:r>
            <a:r>
              <a:rPr b="1" i="1" lang="lv-LV" sz="66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66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6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pl-PL" sz="6600" spc="-1" strike="noStrike">
                <a:solidFill>
                  <a:srgbClr val="000000"/>
                </a:solidFill>
                <a:latin typeface="Stencil"/>
              </a:rPr>
              <a:t>OMUNI</a:t>
            </a:r>
            <a:r>
              <a:rPr b="1" i="1" lang="lv-LV" sz="6600" spc="-1" strike="noStrike">
                <a:solidFill>
                  <a:srgbClr val="000000"/>
                </a:solidFill>
                <a:latin typeface="Arial"/>
              </a:rPr>
              <a:t>KĀC</a:t>
            </a:r>
            <a:r>
              <a:rPr b="1" i="1" lang="pl-PL" sz="6600" spc="-1" strike="noStrike">
                <a:solidFill>
                  <a:srgbClr val="000000"/>
                </a:solidFill>
                <a:latin typeface="Stencil"/>
              </a:rPr>
              <a:t>I</a:t>
            </a:r>
            <a:r>
              <a:rPr b="1" i="1" lang="lv-LV" sz="66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66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361" name="RAMPART.MP3" descr=""/>
          <p:cNvPicPr/>
          <p:nvPr/>
        </p:nvPicPr>
        <p:blipFill>
          <a:blip r:embed="rId2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027"/>
          <p:cNvSpPr/>
          <p:nvPr/>
        </p:nvSpPr>
        <p:spPr>
          <a:xfrm>
            <a:off x="380880" y="2133720"/>
            <a:ext cx="8458200" cy="45727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cc0066"/>
                </a:solidFill>
                <a:latin typeface="Arial"/>
              </a:rPr>
              <a:t>3. 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Soci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ālā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telpa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(1,2m – 3,6m)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- kontaktēšanās ar paziņām vai cilvēkiem, kurus mēs pavisam nepazīstam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 kā piemēram santehniķis, pastnieks,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 „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jauniņais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” 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darbā vai skolā, utt.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07" name="Text Box 1028"/>
          <p:cNvSpPr/>
          <p:nvPr/>
        </p:nvSpPr>
        <p:spPr>
          <a:xfrm>
            <a:off x="1828800" y="380880"/>
            <a:ext cx="7010280" cy="173988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Pro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ksēmi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08" name="Object 1024" descr=""/>
          <p:cNvPicPr/>
          <p:nvPr/>
        </p:nvPicPr>
        <p:blipFill>
          <a:blip r:embed="rId1"/>
          <a:stretch/>
        </p:blipFill>
        <p:spPr>
          <a:xfrm>
            <a:off x="6956280" y="4419720"/>
            <a:ext cx="2187720" cy="219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9" name="Object 1025"/>
          <p:cNvGraphicFramePr/>
          <p:nvPr/>
        </p:nvGraphicFramePr>
        <p:xfrm>
          <a:off x="0" y="228600"/>
          <a:ext cx="1752480" cy="17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0" name="Object 10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175248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Object 1024" descr=""/>
          <p:cNvPicPr/>
          <p:nvPr/>
        </p:nvPicPr>
        <p:blipFill>
          <a:blip r:embed="rId1"/>
          <a:stretch/>
        </p:blipFill>
        <p:spPr>
          <a:xfrm>
            <a:off x="0" y="0"/>
            <a:ext cx="1569960" cy="19350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028"/>
          <p:cNvSpPr/>
          <p:nvPr/>
        </p:nvSpPr>
        <p:spPr>
          <a:xfrm>
            <a:off x="1676520" y="380880"/>
            <a:ext cx="716256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Pro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ksēmi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13" name="Text Box 1029"/>
          <p:cNvSpPr/>
          <p:nvPr/>
        </p:nvSpPr>
        <p:spPr>
          <a:xfrm>
            <a:off x="304920" y="2209680"/>
            <a:ext cx="8534160" cy="46645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cc0066"/>
                </a:solidFill>
                <a:latin typeface="Arial"/>
              </a:rPr>
              <a:t>4. 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Publi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skā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telpa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(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virs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 3,6m) 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izmanto publiskām runām vai publiskiem pasākumiem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graphicFrame>
        <p:nvGraphicFramePr>
          <p:cNvPr id="414" name="Object 1025"/>
          <p:cNvGraphicFramePr/>
          <p:nvPr/>
        </p:nvGraphicFramePr>
        <p:xfrm>
          <a:off x="7238880" y="4114800"/>
          <a:ext cx="155592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5" name="Object 10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114800"/>
                    <a:ext cx="15559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027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85800" y="2133720"/>
            <a:ext cx="3324240" cy="364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Object 1024"/>
          <p:cNvGraphicFramePr/>
          <p:nvPr/>
        </p:nvGraphicFramePr>
        <p:xfrm>
          <a:off x="7010280" y="990720"/>
          <a:ext cx="182880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8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990720"/>
                    <a:ext cx="1828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Text Box 1030"/>
          <p:cNvSpPr/>
          <p:nvPr/>
        </p:nvSpPr>
        <p:spPr>
          <a:xfrm>
            <a:off x="1857240" y="914400"/>
            <a:ext cx="5381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L</a:t>
            </a:r>
            <a:r>
              <a:rPr b="1" lang="lv-LV" sz="3600" spc="-1" strike="noStrike">
                <a:solidFill>
                  <a:srgbClr val="9fb8cd"/>
                </a:solidFill>
                <a:latin typeface="Arial"/>
              </a:rPr>
              <a:t>i</a:t>
            </a: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e</a:t>
            </a:r>
            <a:r>
              <a:rPr b="1" lang="lv-LV" sz="3600" spc="-1" strike="noStrike">
                <a:solidFill>
                  <a:srgbClr val="9fb8cd"/>
                </a:solidFill>
                <a:latin typeface="Arial"/>
              </a:rPr>
              <a:t>c</a:t>
            </a: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 m</a:t>
            </a:r>
            <a:r>
              <a:rPr b="1" lang="lv-LV" sz="3600" spc="-1" strike="noStrike">
                <a:solidFill>
                  <a:srgbClr val="9fb8cd"/>
                </a:solidFill>
                <a:latin typeface="Arial"/>
              </a:rPr>
              <a:t>ani</a:t>
            </a: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 </a:t>
            </a:r>
            <a:r>
              <a:rPr b="1" lang="lv-LV" sz="3600" spc="-1" strike="noStrike">
                <a:solidFill>
                  <a:srgbClr val="9fb8cd"/>
                </a:solidFill>
                <a:latin typeface="Arial"/>
              </a:rPr>
              <a:t>mierā</a:t>
            </a: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! </a:t>
            </a:r>
            <a:endParaRPr b="0" lang="en-US" sz="36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fb8cd"/>
                </a:solidFill>
                <a:latin typeface="Arial"/>
              </a:rPr>
              <a:t>(</a:t>
            </a:r>
            <a:r>
              <a:rPr b="1" lang="lv-LV" sz="3200" spc="-1" strike="noStrike">
                <a:solidFill>
                  <a:srgbClr val="9fb8cd"/>
                </a:solidFill>
                <a:latin typeface="Arial"/>
              </a:rPr>
              <a:t>slēgta attieksme, gatavs pretstāvēt agresijai</a:t>
            </a:r>
            <a:r>
              <a:rPr b="1" lang="pl-PL" sz="3200" spc="-1" strike="noStrike">
                <a:solidFill>
                  <a:srgbClr val="9fb8c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20" name="Text Box 1032"/>
          <p:cNvSpPr/>
          <p:nvPr/>
        </p:nvSpPr>
        <p:spPr>
          <a:xfrm>
            <a:off x="4114800" y="4648320"/>
            <a:ext cx="4778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9fb8cd"/>
                </a:solidFill>
                <a:latin typeface="Arial"/>
              </a:rPr>
              <a:t>Un kurš šeit ir pats svarīgākais</a:t>
            </a: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! </a:t>
            </a:r>
            <a:endParaRPr b="0" lang="en-US" sz="36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fb8cd"/>
                </a:solidFill>
                <a:latin typeface="Arial"/>
              </a:rPr>
              <a:t>(</a:t>
            </a:r>
            <a:r>
              <a:rPr b="1" lang="lv-LV" sz="3200" spc="-1" strike="noStrike">
                <a:solidFill>
                  <a:srgbClr val="9fb8cd"/>
                </a:solidFill>
                <a:latin typeface="Arial"/>
              </a:rPr>
              <a:t>atvērts</a:t>
            </a:r>
            <a:r>
              <a:rPr b="1" lang="pl-PL" sz="3200" spc="-1" strike="noStrike">
                <a:solidFill>
                  <a:srgbClr val="9fb8cd"/>
                </a:solidFill>
                <a:latin typeface="Arial"/>
              </a:rPr>
              <a:t>, </a:t>
            </a:r>
            <a:r>
              <a:rPr b="1" lang="lv-LV" sz="3200" spc="-1" strike="noStrike">
                <a:solidFill>
                  <a:srgbClr val="9fb8cd"/>
                </a:solidFill>
                <a:latin typeface="Arial"/>
              </a:rPr>
              <a:t>sirsnīga attieksme</a:t>
            </a:r>
            <a:r>
              <a:rPr b="1" lang="pl-PL" sz="3200" spc="-1" strike="noStrike">
                <a:solidFill>
                  <a:srgbClr val="9fb8cd"/>
                </a:solidFill>
                <a:latin typeface="Arial"/>
              </a:rPr>
              <a:t>,</a:t>
            </a:r>
            <a:r>
              <a:rPr b="1" lang="lv-LV" sz="3200" spc="-1" strike="noStrike">
                <a:solidFill>
                  <a:srgbClr val="9fb8cd"/>
                </a:solidFill>
                <a:latin typeface="Arial"/>
              </a:rPr>
              <a:t> tomēr gatavs dominēt pār citiem)</a:t>
            </a:r>
            <a:endParaRPr b="0" lang="en-US" sz="3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21" name="Text Box 1033"/>
          <p:cNvSpPr/>
          <p:nvPr/>
        </p:nvSpPr>
        <p:spPr>
          <a:xfrm>
            <a:off x="228600" y="228600"/>
            <a:ext cx="585612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1" lang="lv-LV" sz="5400" spc="-1" strike="noStrike">
                <a:solidFill>
                  <a:srgbClr val="0000cc"/>
                </a:solidFill>
                <a:latin typeface="Arial"/>
              </a:rPr>
              <a:t>inestētika</a:t>
            </a: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pl-PL" sz="5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lv-LV" sz="5400" spc="-1" strike="noStrike">
                <a:solidFill>
                  <a:srgbClr val="0000cc"/>
                </a:solidFill>
                <a:latin typeface="Arial"/>
              </a:rPr>
              <a:t>attieksme</a:t>
            </a:r>
            <a:r>
              <a:rPr b="0" lang="pl-PL" sz="5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i="1" lang="pl-PL" sz="4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22" name="AutoShape 1035"/>
          <p:cNvSpPr/>
          <p:nvPr/>
        </p:nvSpPr>
        <p:spPr>
          <a:xfrm>
            <a:off x="228600" y="5715000"/>
            <a:ext cx="1295280" cy="914400"/>
          </a:xfrm>
          <a:prstGeom prst="leftArrow">
            <a:avLst>
              <a:gd name="adj1" fmla="val 50000"/>
              <a:gd name="adj2" fmla="val 35413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b292ca"/>
                </a:solidFill>
                <a:uFillTx/>
                <a:latin typeface="Stencil"/>
                <a:hlinkClick r:id="rId4" action="ppaction://hlinksldjump"/>
              </a:rPr>
              <a:t>wstecz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23" name="AutoShape 1036"/>
          <p:cNvSpPr/>
          <p:nvPr/>
        </p:nvSpPr>
        <p:spPr>
          <a:xfrm>
            <a:off x="1752480" y="571500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b292ca"/>
                </a:solidFill>
                <a:uFillTx/>
                <a:latin typeface="Stencil"/>
                <a:hlinkClick r:id="rId5" action="ppaction://hlinksldjump"/>
              </a:rPr>
              <a:t>Dalej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5"/>
          <p:cNvSpPr/>
          <p:nvPr/>
        </p:nvSpPr>
        <p:spPr>
          <a:xfrm>
            <a:off x="0" y="304920"/>
            <a:ext cx="535788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Kinest</a:t>
            </a:r>
            <a:r>
              <a:rPr b="1" lang="lv-LV" sz="5400" spc="-1" strike="noStrike">
                <a:solidFill>
                  <a:srgbClr val="0000cc"/>
                </a:solidFill>
                <a:latin typeface="Arial"/>
              </a:rPr>
              <a:t>ētika</a:t>
            </a:r>
            <a:r>
              <a:rPr b="1" lang="pl-PL" sz="4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pl-PL" sz="5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i="1" lang="lv-LV" sz="5400" spc="-1" strike="noStrike">
                <a:solidFill>
                  <a:srgbClr val="0000cc"/>
                </a:solidFill>
                <a:latin typeface="Arial"/>
              </a:rPr>
              <a:t>žesti</a:t>
            </a:r>
            <a:r>
              <a:rPr b="0" i="1" lang="pl-PL" sz="5400" spc="-1" strike="noStrike">
                <a:solidFill>
                  <a:srgbClr val="0000cc"/>
                </a:solidFill>
                <a:latin typeface="Arial"/>
              </a:rPr>
              <a:t> )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25" name="Picture 6" descr="BD05928_"/>
          <p:cNvPicPr/>
          <p:nvPr/>
        </p:nvPicPr>
        <p:blipFill>
          <a:blip r:embed="rId1"/>
          <a:stretch/>
        </p:blipFill>
        <p:spPr>
          <a:xfrm>
            <a:off x="3809880" y="4267080"/>
            <a:ext cx="1648080" cy="19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1024"/>
          <p:cNvGraphicFramePr/>
          <p:nvPr/>
        </p:nvGraphicFramePr>
        <p:xfrm>
          <a:off x="228600" y="1676520"/>
          <a:ext cx="1722600" cy="18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7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172260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1025"/>
          <p:cNvGraphicFramePr/>
          <p:nvPr/>
        </p:nvGraphicFramePr>
        <p:xfrm>
          <a:off x="7467480" y="4343400"/>
          <a:ext cx="1371600" cy="22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9" name="Object 10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67480" y="4343400"/>
                    <a:ext cx="13716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1026"/>
          <p:cNvGraphicFramePr/>
          <p:nvPr/>
        </p:nvGraphicFramePr>
        <p:xfrm>
          <a:off x="7162920" y="1676520"/>
          <a:ext cx="1751040" cy="1825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1" name="Object 10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62920" y="1676520"/>
                    <a:ext cx="175104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1027"/>
          <p:cNvGraphicFramePr/>
          <p:nvPr/>
        </p:nvGraphicFramePr>
        <p:xfrm>
          <a:off x="5334120" y="228600"/>
          <a:ext cx="1981080" cy="1290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3" name="Object 10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4120" y="228600"/>
                    <a:ext cx="198108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Oval 15"/>
          <p:cNvSpPr/>
          <p:nvPr/>
        </p:nvSpPr>
        <p:spPr>
          <a:xfrm>
            <a:off x="2438280" y="1828800"/>
            <a:ext cx="4648320" cy="2362320"/>
          </a:xfrm>
          <a:prstGeom prst="ellipse">
            <a:avLst/>
          </a:prstGeom>
          <a:solidFill>
            <a:srgbClr val="6b5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Ko šie žesti nozīmē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Vai tu piekrīti 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 </a:t>
            </a: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šādam žestu  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skaidrojumam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0" y="3657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Man nav ko slēpt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?                                                                    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Uzvaras prieks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456720" y="6286680"/>
            <a:ext cx="47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Taisnība ir man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!                     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Tas nav iespējams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!  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5270040" y="144792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Tajā virzienā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0" y="304920"/>
            <a:ext cx="817236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Kinest</a:t>
            </a:r>
            <a:r>
              <a:rPr b="1" lang="lv-LV" sz="5400" spc="-1" strike="noStrike">
                <a:solidFill>
                  <a:srgbClr val="0000cc"/>
                </a:solidFill>
                <a:latin typeface="Arial"/>
              </a:rPr>
              <a:t>ētika</a:t>
            </a: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 – </a:t>
            </a:r>
            <a:r>
              <a:rPr b="1" lang="lv-LV" sz="4800" spc="-1" strike="noStrike">
                <a:solidFill>
                  <a:srgbClr val="0000cc"/>
                </a:solidFill>
                <a:latin typeface="Arial"/>
              </a:rPr>
              <a:t>ar</a:t>
            </a:r>
            <a:r>
              <a:rPr b="1" lang="lv-LV" sz="5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lv-LV" sz="4800" spc="-1" strike="noStrike">
                <a:solidFill>
                  <a:srgbClr val="0000cc"/>
                </a:solidFill>
                <a:latin typeface="Arial"/>
              </a:rPr>
              <a:t>seju saistītie</a:t>
            </a:r>
            <a:r>
              <a:rPr b="1" lang="pl-PL" sz="4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lv-LV" sz="4800" spc="-1" strike="noStrike">
                <a:solidFill>
                  <a:srgbClr val="0000cc"/>
                </a:solidFill>
                <a:latin typeface="Arial"/>
              </a:rPr>
              <a:t>žesti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graphicFrame>
        <p:nvGraphicFramePr>
          <p:cNvPr id="439" name="Object 1024"/>
          <p:cNvGraphicFramePr/>
          <p:nvPr/>
        </p:nvGraphicFramePr>
        <p:xfrm>
          <a:off x="2895480" y="3962520"/>
          <a:ext cx="15876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962520"/>
                    <a:ext cx="15876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1025"/>
          <p:cNvGraphicFramePr/>
          <p:nvPr/>
        </p:nvGraphicFramePr>
        <p:xfrm>
          <a:off x="6994440" y="3962520"/>
          <a:ext cx="17035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94440" y="3962520"/>
                    <a:ext cx="17035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3" name="Picture 8" descr="BD06094_"/>
          <p:cNvPicPr/>
          <p:nvPr/>
        </p:nvPicPr>
        <p:blipFill>
          <a:blip r:embed="rId5"/>
          <a:stretch/>
        </p:blipFill>
        <p:spPr>
          <a:xfrm>
            <a:off x="7238880" y="0"/>
            <a:ext cx="1489320" cy="167652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10"/>
          <p:cNvSpPr/>
          <p:nvPr/>
        </p:nvSpPr>
        <p:spPr>
          <a:xfrm>
            <a:off x="2895480" y="609588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Vīrieti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avēl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brīdina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ņemot lēmumu vai 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Sieviete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izvērtē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intereses zudum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izvērtējot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152280" y="3048120"/>
            <a:ext cx="291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Spēlējoties ar priekšmetiem tiek bloķēta sapratne.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iesedzot mutes signālus, kas liecina par piesardzību vai meliem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46" name="Picture 14" descr="BD06811_"/>
          <p:cNvPicPr/>
          <p:nvPr/>
        </p:nvPicPr>
        <p:blipFill>
          <a:blip r:embed="rId6"/>
          <a:stretch/>
        </p:blipFill>
        <p:spPr>
          <a:xfrm>
            <a:off x="457200" y="1143000"/>
            <a:ext cx="1343160" cy="1801800"/>
          </a:xfrm>
          <a:prstGeom prst="rect">
            <a:avLst/>
          </a:prstGeom>
          <a:ln w="0">
            <a:noFill/>
          </a:ln>
        </p:spPr>
      </p:pic>
      <p:sp>
        <p:nvSpPr>
          <p:cNvPr id="447" name="Oval 15"/>
          <p:cNvSpPr/>
          <p:nvPr/>
        </p:nvSpPr>
        <p:spPr>
          <a:xfrm>
            <a:off x="2857680" y="1285920"/>
            <a:ext cx="4647960" cy="2362320"/>
          </a:xfrm>
          <a:prstGeom prst="ellipse">
            <a:avLst/>
          </a:prstGeom>
          <a:solidFill>
            <a:srgbClr val="6b5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Ko nozīmē šie žesti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Vai tu piekrīti 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 </a:t>
            </a: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šādam žestu  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skaidrojumam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BD07798_"/>
          <p:cNvPicPr/>
          <p:nvPr/>
        </p:nvPicPr>
        <p:blipFill>
          <a:blip r:embed="rId1"/>
          <a:stretch/>
        </p:blipFill>
        <p:spPr>
          <a:xfrm>
            <a:off x="6754680" y="4191120"/>
            <a:ext cx="1965600" cy="228600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3"/>
          <p:cNvSpPr/>
          <p:nvPr/>
        </p:nvSpPr>
        <p:spPr>
          <a:xfrm>
            <a:off x="179280" y="457200"/>
            <a:ext cx="540072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Kinest</a:t>
            </a:r>
            <a:r>
              <a:rPr b="1" lang="lv-LV" sz="5400" spc="-1" strike="noStrike">
                <a:solidFill>
                  <a:srgbClr val="0000cc"/>
                </a:solidFill>
                <a:latin typeface="Arial"/>
              </a:rPr>
              <a:t>ētika</a:t>
            </a: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pl-PL" sz="5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i="1" lang="lv-LV" sz="5400" spc="-1" strike="noStrike">
                <a:solidFill>
                  <a:srgbClr val="0000cc"/>
                </a:solidFill>
                <a:latin typeface="Arial"/>
              </a:rPr>
              <a:t>plaukstas</a:t>
            </a:r>
            <a:r>
              <a:rPr b="0" i="1" lang="pl-PL" sz="5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i="1" lang="pl-PL" sz="4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graphicFrame>
        <p:nvGraphicFramePr>
          <p:cNvPr id="450" name="Object 1024"/>
          <p:cNvGraphicFramePr/>
          <p:nvPr/>
        </p:nvGraphicFramePr>
        <p:xfrm>
          <a:off x="3886200" y="4952880"/>
          <a:ext cx="2211480" cy="134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1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4952880"/>
                    <a:ext cx="221148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2" name="Picture 5" descr="BD06941_"/>
          <p:cNvPicPr/>
          <p:nvPr/>
        </p:nvPicPr>
        <p:blipFill>
          <a:blip r:embed="rId4"/>
          <a:stretch/>
        </p:blipFill>
        <p:spPr>
          <a:xfrm>
            <a:off x="5257800" y="0"/>
            <a:ext cx="1719360" cy="1808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BD06942_"/>
          <p:cNvPicPr/>
          <p:nvPr/>
        </p:nvPicPr>
        <p:blipFill>
          <a:blip r:embed="rId5"/>
          <a:stretch/>
        </p:blipFill>
        <p:spPr>
          <a:xfrm>
            <a:off x="7086600" y="533520"/>
            <a:ext cx="1719360" cy="18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4" name="Object 1025"/>
          <p:cNvGraphicFramePr/>
          <p:nvPr/>
        </p:nvGraphicFramePr>
        <p:xfrm>
          <a:off x="533520" y="2514600"/>
          <a:ext cx="1811160" cy="22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5" name="Object 10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2514600"/>
                    <a:ext cx="1811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Oval 15"/>
          <p:cNvSpPr/>
          <p:nvPr/>
        </p:nvSpPr>
        <p:spPr>
          <a:xfrm>
            <a:off x="2438280" y="1828800"/>
            <a:ext cx="4648320" cy="2362320"/>
          </a:xfrm>
          <a:prstGeom prst="ellipse">
            <a:avLst/>
          </a:prstGeom>
          <a:solidFill>
            <a:srgbClr val="6b5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Ko nozīmē šie žesti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Lūdzu izskaidrojiet tos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.  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6357960" y="285840"/>
            <a:ext cx="235728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9fb8cd"/>
                </a:solidFill>
                <a:latin typeface="Arial Black"/>
              </a:rPr>
              <a:t> </a:t>
            </a:r>
            <a:r>
              <a:rPr b="1" lang="pl-PL" sz="5400" spc="-1" strike="noStrike">
                <a:solidFill>
                  <a:srgbClr val="9fb8cd"/>
                </a:solidFill>
                <a:latin typeface="Arial Black"/>
              </a:rPr>
              <a:t>m</a:t>
            </a:r>
            <a:r>
              <a:rPr b="1" lang="lv-LV" sz="5400" spc="-1" strike="noStrike">
                <a:solidFill>
                  <a:srgbClr val="9fb8cd"/>
                </a:solidFill>
                <a:latin typeface="Arial Black"/>
              </a:rPr>
              <a:t>ī</a:t>
            </a:r>
            <a:r>
              <a:rPr b="1" lang="pl-PL" sz="5400" spc="-1" strike="noStrike">
                <a:solidFill>
                  <a:srgbClr val="9fb8cd"/>
                </a:solidFill>
                <a:latin typeface="Arial Black"/>
              </a:rPr>
              <a:t>mi</a:t>
            </a:r>
            <a:r>
              <a:rPr b="1" lang="lv-LV" sz="5400" spc="-1" strike="noStrike">
                <a:solidFill>
                  <a:srgbClr val="9fb8cd"/>
                </a:solidFill>
                <a:latin typeface="Arial Black"/>
              </a:rPr>
              <a:t>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878280" cy="4343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3768840" cy="4343400"/>
          </a:xfrm>
          <a:prstGeom prst="rect">
            <a:avLst/>
          </a:prstGeom>
          <a:ln w="0">
            <a:noFill/>
          </a:ln>
        </p:spPr>
      </p:pic>
      <p:sp>
        <p:nvSpPr>
          <p:cNvPr id="460" name="pole tekstowe 8"/>
          <p:cNvSpPr/>
          <p:nvPr/>
        </p:nvSpPr>
        <p:spPr>
          <a:xfrm>
            <a:off x="2214720" y="4714920"/>
            <a:ext cx="2000160" cy="82512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PRIEK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61" name="pole tekstowe 9"/>
          <p:cNvSpPr/>
          <p:nvPr/>
        </p:nvSpPr>
        <p:spPr>
          <a:xfrm>
            <a:off x="6215040" y="5286240"/>
            <a:ext cx="22147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SKUMJA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657600" y="304920"/>
            <a:ext cx="520056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9fb8cd"/>
                </a:solidFill>
                <a:latin typeface="Arial Black"/>
              </a:rPr>
              <a:t>M</a:t>
            </a:r>
            <a:r>
              <a:rPr b="0" lang="lv-LV" sz="5400" spc="-1" strike="noStrike">
                <a:solidFill>
                  <a:srgbClr val="9fb8cd"/>
                </a:solidFill>
                <a:latin typeface="Arial Black"/>
              </a:rPr>
              <a:t>Ī</a:t>
            </a:r>
            <a:r>
              <a:rPr b="0" lang="pl-PL" sz="5400" spc="-1" strike="noStrike">
                <a:solidFill>
                  <a:srgbClr val="9fb8cd"/>
                </a:solidFill>
                <a:latin typeface="Arial Black"/>
              </a:rPr>
              <a:t>MI</a:t>
            </a:r>
            <a:r>
              <a:rPr b="0" lang="lv-LV" sz="5400" spc="-1" strike="noStrike">
                <a:solidFill>
                  <a:srgbClr val="9fb8cd"/>
                </a:solidFill>
                <a:latin typeface="Arial Black"/>
              </a:rPr>
              <a:t>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36800" cy="43052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3335040" cy="4343400"/>
          </a:xfrm>
          <a:prstGeom prst="rect">
            <a:avLst/>
          </a:prstGeom>
          <a:ln w="0">
            <a:noFill/>
          </a:ln>
        </p:spPr>
      </p:pic>
      <p:sp>
        <p:nvSpPr>
          <p:cNvPr id="465" name="pole tekstowe 8"/>
          <p:cNvSpPr/>
          <p:nvPr/>
        </p:nvSpPr>
        <p:spPr>
          <a:xfrm>
            <a:off x="2500200" y="4714920"/>
            <a:ext cx="1785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l-PL" sz="4800" spc="-1" strike="noStrike">
                <a:solidFill>
                  <a:srgbClr val="000000"/>
                </a:solidFill>
                <a:latin typeface="Stencil"/>
              </a:rPr>
              <a:t>A</a:t>
            </a: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ILE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66" name="pole tekstowe 9"/>
          <p:cNvSpPr/>
          <p:nvPr/>
        </p:nvSpPr>
        <p:spPr>
          <a:xfrm>
            <a:off x="6072120" y="5214960"/>
            <a:ext cx="24289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RIEBUM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6637320" y="357120"/>
            <a:ext cx="167292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9fb8cd"/>
                </a:solidFill>
                <a:latin typeface="Arial Black"/>
              </a:rPr>
              <a:t>M</a:t>
            </a:r>
            <a:r>
              <a:rPr b="0" lang="lv-LV" sz="5400" spc="-1" strike="noStrike">
                <a:solidFill>
                  <a:srgbClr val="9fb8cd"/>
                </a:solidFill>
                <a:latin typeface="Arial Black"/>
              </a:rPr>
              <a:t>Ī</a:t>
            </a:r>
            <a:r>
              <a:rPr b="0" lang="pl-PL" sz="5400" spc="-1" strike="noStrike">
                <a:solidFill>
                  <a:srgbClr val="9fb8cd"/>
                </a:solidFill>
                <a:latin typeface="Arial Black"/>
              </a:rPr>
              <a:t>MI</a:t>
            </a:r>
            <a:r>
              <a:rPr b="0" lang="lv-LV" sz="5400" spc="-1" strike="noStrike">
                <a:solidFill>
                  <a:srgbClr val="9fb8cd"/>
                </a:solidFill>
                <a:latin typeface="Arial Black"/>
              </a:rPr>
              <a:t>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875040" cy="4419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630600" cy="4419720"/>
          </a:xfrm>
          <a:prstGeom prst="rect">
            <a:avLst/>
          </a:prstGeom>
          <a:ln w="0">
            <a:noFill/>
          </a:ln>
        </p:spPr>
      </p:pic>
      <p:sp>
        <p:nvSpPr>
          <p:cNvPr id="470" name="pole tekstowe 4"/>
          <p:cNvSpPr/>
          <p:nvPr/>
        </p:nvSpPr>
        <p:spPr>
          <a:xfrm>
            <a:off x="1071720" y="5000760"/>
            <a:ext cx="3357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IZBRĪN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71" name="pole tekstowe 5"/>
          <p:cNvSpPr/>
          <p:nvPr/>
        </p:nvSpPr>
        <p:spPr>
          <a:xfrm>
            <a:off x="6084720" y="5357880"/>
            <a:ext cx="2487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DUSMA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464653"/>
                </a:solidFill>
                <a:latin typeface="Times New Roman"/>
              </a:rPr>
              <a:t>SASKAŅ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2193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ākt saskaņu var gadījumā, kad jūsu ķermenis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ss tonis un vārdi ir vienā ritmā, tas ir, vēsta vienu un to pašu informāciju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d jūs uztvers kā patiesu un uzticamu cilvēku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ākumu atslēga ir  PATIESA POZITĪVA ATTIEKSM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t cilvēku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026"/>
          <p:cNvSpPr/>
          <p:nvPr/>
        </p:nvSpPr>
        <p:spPr>
          <a:xfrm>
            <a:off x="1371600" y="304920"/>
            <a:ext cx="6629400" cy="119124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2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1" lang="pl-PL" sz="7200" spc="-1" strike="noStrike">
                <a:solidFill>
                  <a:srgbClr val="000000"/>
                </a:solidFill>
                <a:latin typeface="Arial Black"/>
              </a:rPr>
              <a:t>OMUNI</a:t>
            </a:r>
            <a:r>
              <a:rPr b="1" lang="lv-LV" sz="7200" spc="-1" strike="noStrike">
                <a:solidFill>
                  <a:srgbClr val="000000"/>
                </a:solidFill>
                <a:latin typeface="Arial Black"/>
              </a:rPr>
              <a:t>KĀCIJA</a:t>
            </a:r>
            <a:endParaRPr b="0" lang="en-US" sz="7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3" name="Text Box 1027"/>
          <p:cNvSpPr/>
          <p:nvPr/>
        </p:nvSpPr>
        <p:spPr>
          <a:xfrm>
            <a:off x="228600" y="2209680"/>
            <a:ext cx="967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6600"/>
                </a:solidFill>
                <a:latin typeface="Arial"/>
              </a:rPr>
              <a:t>VERB</a:t>
            </a:r>
            <a:r>
              <a:rPr b="0" lang="lv-LV" sz="4000" spc="-1" strike="noStrike">
                <a:solidFill>
                  <a:srgbClr val="006600"/>
                </a:solidFill>
                <a:latin typeface="Arial"/>
              </a:rPr>
              <a:t>Ā</a:t>
            </a:r>
            <a:r>
              <a:rPr b="0" lang="pl-PL" sz="4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lv-LV" sz="4000" spc="-1" strike="noStrike">
                <a:solidFill>
                  <a:srgbClr val="006600"/>
                </a:solidFill>
                <a:latin typeface="Arial"/>
              </a:rPr>
              <a:t>Ā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  </a:t>
            </a: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      </a:t>
            </a:r>
            <a:r>
              <a:rPr b="0" lang="pl-PL" sz="4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lv-LV" sz="4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pl-PL" sz="4000" spc="-1" strike="noStrike">
                <a:solidFill>
                  <a:srgbClr val="ff3300"/>
                </a:solidFill>
                <a:latin typeface="Arial"/>
              </a:rPr>
              <a:t>VERB</a:t>
            </a:r>
            <a:r>
              <a:rPr b="0" lang="lv-LV" sz="40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pl-PL" sz="40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lv-LV" sz="40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pl-PL" sz="4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pl-PL" sz="4000" spc="-1" strike="noStrike">
                <a:solidFill>
                  <a:srgbClr val="cc00cc"/>
                </a:solidFill>
                <a:latin typeface="Arial"/>
              </a:rPr>
              <a:t>R</a:t>
            </a:r>
            <a:r>
              <a:rPr b="0" lang="lv-LV" sz="4000" spc="-1" strike="noStrike">
                <a:solidFill>
                  <a:srgbClr val="cc00cc"/>
                </a:solidFill>
                <a:latin typeface="Arial"/>
              </a:rPr>
              <a:t>AKS</a:t>
            </a:r>
            <a:r>
              <a:rPr b="0" lang="pl-PL" sz="4000" spc="-1" strike="noStrike">
                <a:solidFill>
                  <a:srgbClr val="cc00cc"/>
                </a:solidFill>
                <a:latin typeface="Arial"/>
              </a:rPr>
              <a:t>T</a:t>
            </a:r>
            <a:r>
              <a:rPr b="0" lang="lv-LV" sz="4000" spc="-1" strike="noStrike">
                <a:solidFill>
                  <a:srgbClr val="cc00cc"/>
                </a:solidFill>
                <a:latin typeface="Arial"/>
              </a:rPr>
              <a:t>ISKĀ</a:t>
            </a:r>
            <a:r>
              <a:rPr b="0" lang="pl-PL" sz="4000" spc="-1" strike="noStrike">
                <a:solidFill>
                  <a:srgbClr val="ff3300"/>
                </a:solidFill>
                <a:latin typeface="Stencil"/>
              </a:rPr>
              <a:t>	</a:t>
            </a:r>
            <a:r>
              <a:rPr b="0" lang="lv-LV" sz="4000" spc="-1" strike="noStrike">
                <a:solidFill>
                  <a:srgbClr val="ff3300"/>
                </a:solidFill>
                <a:latin typeface="Stencil"/>
              </a:rPr>
              <a:t>             </a:t>
            </a:r>
            <a:r>
              <a:rPr b="0" lang="lv-LV" sz="4000" spc="-1" strike="noStrike">
                <a:solidFill>
                  <a:srgbClr val="996600"/>
                </a:solidFill>
                <a:latin typeface="Arial"/>
              </a:rPr>
              <a:t>CITA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3300"/>
                </a:solidFill>
                <a:latin typeface="Stencil"/>
              </a:rPr>
              <a:t> </a:t>
            </a:r>
            <a:r>
              <a:rPr b="0" lang="pl-PL" sz="4000" spc="-1" strike="noStrike">
                <a:solidFill>
                  <a:srgbClr val="006600"/>
                </a:solidFill>
                <a:latin typeface="Arial Black"/>
              </a:rPr>
              <a:t>(</a:t>
            </a:r>
            <a:r>
              <a:rPr b="0" lang="lv-LV" sz="4000" spc="-1" strike="noStrike">
                <a:solidFill>
                  <a:srgbClr val="006600"/>
                </a:solidFill>
                <a:latin typeface="Arial Black"/>
              </a:rPr>
              <a:t>runa</a:t>
            </a:r>
            <a:r>
              <a:rPr b="0" lang="pl-PL" sz="4000" spc="-1" strike="noStrike">
                <a:solidFill>
                  <a:srgbClr val="006600"/>
                </a:solidFill>
                <a:latin typeface="Arial Black"/>
              </a:rPr>
              <a:t>)</a:t>
            </a: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( </a:t>
            </a:r>
            <a:r>
              <a:rPr b="0" lang="lv-LV" sz="4000" spc="-1" strike="noStrike">
                <a:solidFill>
                  <a:srgbClr val="ff3300"/>
                </a:solidFill>
                <a:latin typeface="Arial Black"/>
              </a:rPr>
              <a:t>žesti</a:t>
            </a: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, </a:t>
            </a:r>
            <a:r>
              <a:rPr b="0" lang="lv-LV" sz="4000" spc="-1" strike="noStrike">
                <a:solidFill>
                  <a:srgbClr val="ff3300"/>
                </a:solidFill>
                <a:latin typeface="Arial Black"/>
              </a:rPr>
              <a:t>mīmika</a:t>
            </a: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, </a:t>
            </a:r>
            <a:r>
              <a:rPr b="0" lang="lv-LV" sz="4000" spc="-1" strike="noStrike">
                <a:solidFill>
                  <a:srgbClr val="ff3300"/>
                </a:solidFill>
                <a:latin typeface="Arial Black"/>
              </a:rPr>
              <a:t>kustības)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9fb8cd"/>
                </a:solidFill>
                <a:latin typeface="Arial Black"/>
              </a:rPr>
              <a:t>	</a:t>
            </a:r>
            <a:r>
              <a:rPr b="0" lang="pl-PL" sz="4000" spc="-1" strike="noStrike">
                <a:solidFill>
                  <a:srgbClr val="9fb8cd"/>
                </a:solidFill>
                <a:latin typeface="Arial Black"/>
              </a:rPr>
              <a:t>	</a:t>
            </a:r>
            <a:r>
              <a:rPr b="0" lang="pl-PL" sz="4000" spc="-1" strike="noStrike">
                <a:solidFill>
                  <a:srgbClr val="9fb8cd"/>
                </a:solidFill>
                <a:latin typeface="Arial Black"/>
              </a:rPr>
              <a:t>	</a:t>
            </a:r>
            <a:r>
              <a:rPr b="0" lang="pl-PL" sz="4000" spc="-1" strike="noStrike">
                <a:solidFill>
                  <a:srgbClr val="9fb8cd"/>
                </a:solidFill>
                <a:latin typeface="Arial Black"/>
              </a:rPr>
              <a:t>	</a:t>
            </a:r>
            <a:r>
              <a:rPr b="0" lang="pl-PL" sz="4000" spc="-1" strike="noStrike">
                <a:solidFill>
                  <a:srgbClr val="9fb8cd"/>
                </a:solidFill>
                <a:latin typeface="Arial Black"/>
              </a:rPr>
              <a:t> </a:t>
            </a:r>
            <a:r>
              <a:rPr b="0" lang="pl-PL" sz="4000" spc="-1" strike="noStrike">
                <a:solidFill>
                  <a:srgbClr val="996600"/>
                </a:solidFill>
                <a:latin typeface="Arial Black"/>
              </a:rPr>
              <a:t>(gra</a:t>
            </a:r>
            <a:r>
              <a:rPr b="0" lang="lv-LV" sz="4000" spc="-1" strike="noStrike">
                <a:solidFill>
                  <a:srgbClr val="996600"/>
                </a:solidFill>
                <a:latin typeface="Arial Black"/>
              </a:rPr>
              <a:t>fiki</a:t>
            </a:r>
            <a:r>
              <a:rPr b="0" lang="pl-PL" sz="4000" spc="-1" strike="noStrike">
                <a:solidFill>
                  <a:srgbClr val="996600"/>
                </a:solidFill>
                <a:latin typeface="Arial Black"/>
              </a:rPr>
              <a:t> </a:t>
            </a:r>
            <a:r>
              <a:rPr b="0" lang="lv-LV" sz="4000" spc="-1" strike="noStrike">
                <a:solidFill>
                  <a:srgbClr val="996600"/>
                </a:solidFill>
                <a:latin typeface="Arial Black"/>
              </a:rPr>
              <a:t>un</a:t>
            </a:r>
            <a:r>
              <a:rPr b="0" lang="pl-PL" sz="4000" spc="-1" strike="noStrike">
                <a:solidFill>
                  <a:srgbClr val="996600"/>
                </a:solidFill>
                <a:latin typeface="Arial Black"/>
              </a:rPr>
              <a:t> </a:t>
            </a:r>
            <a:r>
              <a:rPr b="0" lang="lv-LV" sz="4000" spc="-1" strike="noStrike">
                <a:solidFill>
                  <a:srgbClr val="996600"/>
                </a:solidFill>
                <a:latin typeface="Arial Black"/>
              </a:rPr>
              <a:t>skaņas simboli</a:t>
            </a:r>
            <a:r>
              <a:rPr b="0" lang="pl-PL" sz="4000" spc="-1" strike="noStrike">
                <a:solidFill>
                  <a:srgbClr val="996600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4" name="Line 1028"/>
          <p:cNvSpPr/>
          <p:nvPr/>
        </p:nvSpPr>
        <p:spPr>
          <a:xfrm>
            <a:off x="914400" y="26668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8077320" y="2819520"/>
            <a:ext cx="0" cy="2361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6" name="Line 1036"/>
          <p:cNvSpPr/>
          <p:nvPr/>
        </p:nvSpPr>
        <p:spPr>
          <a:xfrm flipH="1">
            <a:off x="3809880" y="1371600"/>
            <a:ext cx="60984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7" name="Line 1037"/>
          <p:cNvSpPr/>
          <p:nvPr/>
        </p:nvSpPr>
        <p:spPr>
          <a:xfrm>
            <a:off x="5486400" y="1371600"/>
            <a:ext cx="9907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8" name="Line 1038"/>
          <p:cNvSpPr/>
          <p:nvPr/>
        </p:nvSpPr>
        <p:spPr>
          <a:xfrm>
            <a:off x="6629400" y="1371600"/>
            <a:ext cx="14479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9" name="Line 1044"/>
          <p:cNvSpPr/>
          <p:nvPr/>
        </p:nvSpPr>
        <p:spPr>
          <a:xfrm flipH="1">
            <a:off x="1142640" y="1295280"/>
            <a:ext cx="1600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70" name="Line 1045"/>
          <p:cNvSpPr/>
          <p:nvPr/>
        </p:nvSpPr>
        <p:spPr>
          <a:xfrm>
            <a:off x="4038480" y="27432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464653"/>
                </a:solidFill>
                <a:latin typeface="Times New Roman"/>
              </a:rPr>
              <a:t>DARBĪBA</a:t>
            </a:r>
            <a:r>
              <a:rPr b="1" lang="pl-PL" sz="4000" spc="-1" strike="noStrike">
                <a:solidFill>
                  <a:srgbClr val="46465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85800" y="134136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Pasaki doto vārdu būdams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smīg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garlaikoj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brīnījie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rtējo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Ir vēl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“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Man pietie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“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Paskaties uz man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 tu esi dzimi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8604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464653"/>
                </a:solidFill>
                <a:latin typeface="Times New Roman"/>
              </a:rPr>
              <a:t>DARBĪBA</a:t>
            </a:r>
            <a:r>
              <a:rPr b="1" lang="pl-PL" sz="3600" spc="-1" strike="noStrike">
                <a:solidFill>
                  <a:srgbClr val="464653"/>
                </a:solidFill>
                <a:latin typeface="Times New Roman"/>
              </a:rPr>
              <a:t> (cd.)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28760" y="19209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0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Ļauj citam cilvēkam noklausīties apgalvojumus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Ļauj viņam/viņai uzminēt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u no četrām emocijām tu izmantoji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viņam/viņai nav skaidrs, mēģini vēl un vēl, līdz viņam/viņai nebūs nekādu šaubu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laimīg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laimīgs/-a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laimīg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daudz smaid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Mēs pat varētu pamanīt nelielu lēcienu, kad viņš staigā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atbrīvo sejas muskuļus un veic peldošas kustīb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dungo vai dzied pie sev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atvērtā ķermeņa poza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emierīg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nemierīgs/-a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57120" y="1928520"/>
            <a:ext cx="85010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emierīg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bāls un ar sausām lūpā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āk svīs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ļoti nervozs un strauji kustina ac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krata kāju vai sit ar pēdu pa zem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zdara straujas kustības, būdams kādu laiku mierīg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tostā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dusmīg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dusmīgs/-a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24000" y="1915920"/>
            <a:ext cx="85010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dusmīg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it dūri pret galdu un skaļi runā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ažmiedz roku dūrē un, runājot ar cilvēku, liecas uz viņa pusi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akož zobus un šņāc/rūc runājo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sasprindzinājis muskuļu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oskumi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noskumis/-usi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57120" y="1928520"/>
            <a:ext cx="85010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oskumis, viņš (viņam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būs trīcošas lūp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nespēs paskatīties tieši tev acīs un dažreiz ir saredzamas asar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1" i="1" lang="lv-LV" sz="2600" spc="-1" strike="noStrike">
                <a:solidFill>
                  <a:srgbClr val="000000"/>
                </a:solidFill>
                <a:latin typeface="Arial"/>
              </a:rPr>
              <a:t>nošļucis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ķermen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ir zems, vārgs balss toni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rīs lūpas (trīsas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runā bez intonācijas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asar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 flipV="1">
            <a:off x="228600" y="307800"/>
            <a:ext cx="49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„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lvēka</a:t>
            </a: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Times New Roman"/>
              </a:rPr>
              <a:t>ķermeņa valoda</a:t>
            </a:r>
            <a:endParaRPr b="0" lang="en-US" sz="32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vecākā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visuzticamākā un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univers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ālākā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valoda pasaulē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3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228600" y="3886200"/>
            <a:ext cx="441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verb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ās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saprašanās pamatā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jūtas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attieksme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gaidas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373" name="Picture 9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63708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75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325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825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izbrīnī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izbrīnīts/-a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7120" y="1928520"/>
            <a:ext cx="85010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izbrīnīts, viņš (viņam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ēkšņi atver mut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ādējādi rādot emociju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‘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man atkārās žokl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'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ēkšņi atkāpj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laši atver acis vai pieliek roku priekšā mutei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paceltas uzacis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obijies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viņam ir bai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nobijies/-usies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 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57120" y="1928520"/>
            <a:ext cx="85010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obijies, baidās, viņš (viņam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bāl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vīst, ir sausa mu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Mainīgs balss ton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sasprindzināti muskuļ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elpošanas spazmas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Dažas pazīmes var sakris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64653"/>
                </a:solidFill>
                <a:latin typeface="Arial"/>
              </a:rPr>
              <a:t>Cilvēks kurš “šaudās” ar acīm, vainu melo vai ir vienkārši nervoz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; 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Lai pilnvērtīgi saprastu, ko cilvēks jū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tev jāņem vērā sarunas konteksts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Daļa no ķermeņa lasīšanas spējas ir pieredze, daļa ir izjūt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64653"/>
                </a:solidFill>
                <a:latin typeface="Arial"/>
              </a:rPr>
              <a:t>Kāpēc pacientu emocijas ir svarīgas?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Emocijas ir ķīmiska un nervu reakcija smadzenē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Izmantojot sejas izteiksmes, ķermeņa valodu, balss toni, netiešu un tiešu uzvedību, mēs sajūtam otra jūtas un neapzināti reaģējam ar mūsu pašu emocijām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piemēram kā smiekli izplatās pa telpu un uzmundrina visus, kas tajā atrodas</a:t>
            </a:r>
            <a:r>
              <a:rPr b="0" lang="lv-LV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Kāpēc pacientu emocijas ir svarīgas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d mūsu saspringtās emocijas nespēj atrast pret ko izpausties, laimes sajūta samazinās, izmisums pastiprinās, depresija pastiprinās, dusmas aug un iekšējās emocionālās vajadzības ir nepiepildīt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Ņemot vērā to, ka emocijām ir bioķīmisks raksturs, tās ietekmē fizisko, garīgo un psihosociālo veselīb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http://www.hhnmag.com/hhnmag_app/jsp/articledisplay.jsp „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eating the Patient's Emotions</a:t>
            </a: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” b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y Paul Alexander Cla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1.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eklausies pacientā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Klausie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  <a:ea typeface="Arial"/>
              </a:rPr>
              <a:t>Nepārtrauc pacientu, kamēr viņš runā</a:t>
            </a:r>
            <a:r>
              <a:rPr b="0" lang="en-US" sz="2300" spc="-1" strike="noStrike">
                <a:solidFill>
                  <a:srgbClr val="464653"/>
                </a:solidFill>
                <a:latin typeface="Arial"/>
                <a:ea typeface="Arial"/>
              </a:rPr>
              <a:t>.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  <a:ea typeface="Arial"/>
              </a:rPr>
              <a:t>Pacienti un ģimenes, kas saskaras ar </a:t>
            </a:r>
            <a:r>
              <a:rPr b="1" i="1" lang="lv-LV" sz="2300" spc="-1" strike="noStrike">
                <a:solidFill>
                  <a:srgbClr val="464653"/>
                </a:solidFill>
                <a:latin typeface="Arial"/>
                <a:ea typeface="Arial"/>
              </a:rPr>
              <a:t>dzīves beigu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  <a:ea typeface="Arial"/>
              </a:rPr>
              <a:t> lēmumiem, vēlas iespēju izrunāt ar savu ārstu par to, ko viņi domā un jūt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523" name="Prostokąt 3"/>
          <p:cNvSpPr/>
          <p:nvPr/>
        </p:nvSpPr>
        <p:spPr>
          <a:xfrm>
            <a:off x="285840" y="571500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fb8cd"/>
                </a:solidFill>
                <a:latin typeface="Stencil"/>
              </a:rPr>
              <a:t>Title: Fast Fact and Concept #29: Responding to patient emotions</a:t>
            </a:r>
            <a:endParaRPr b="0" lang="en-US" sz="1800" spc="-1" strike="noStrike">
              <a:solidFill>
                <a:srgbClr val="9fb8cd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b8cd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fb8cd"/>
                </a:solidFill>
                <a:latin typeface="Stencil"/>
              </a:rPr>
              <a:t>Author(s): Bruce Ambuel, PhD; David E. Weissman, MD</a:t>
            </a:r>
            <a:endParaRPr b="0" lang="en-US" sz="1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eklausies sevī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Ņem vērā pats savas emocij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Tavas skumja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 dusma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 nemier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bailes vai priek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bieži ir pirmais pierādījums, ka pacients vēlas izpaust svarīgu emocionālu ziņu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i="1" lang="lv-LV" sz="2400" spc="-1" strike="noStrike">
                <a:solidFill>
                  <a:srgbClr val="464653"/>
                </a:solidFill>
                <a:latin typeface="Arial"/>
              </a:rPr>
              <a:t>Izvairieties no ātras emociju izrādīšanas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Atspoguļo domas, jūtas un uzvedību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Atspoguļojum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pasaka pacientam, ka tu klausies un tev viņš ir svarīg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tādā veidā dodot atļauju runāt par privātām, jūtīgām tēmām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ļauj pacientam ieklausīties savās domā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paaugstinot tādā veidā viņa pašapziņu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ļauj pacientam apstiprināt, izlabot, papildināt to, ko Jūs saprotat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ĶERMEŅA VALOD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75" name="Group 22"/>
          <p:cNvGrpSpPr/>
          <p:nvPr/>
        </p:nvGrpSpPr>
        <p:grpSpPr>
          <a:xfrm>
            <a:off x="838080" y="2057400"/>
            <a:ext cx="3276360" cy="3428640"/>
            <a:chOff x="838080" y="2057400"/>
            <a:chExt cx="3276360" cy="3428640"/>
          </a:xfrm>
        </p:grpSpPr>
        <p:grpSp>
          <p:nvGrpSpPr>
            <p:cNvPr id="376" name="Group 18"/>
            <p:cNvGrpSpPr/>
            <p:nvPr/>
          </p:nvGrpSpPr>
          <p:grpSpPr>
            <a:xfrm>
              <a:off x="838080" y="2057400"/>
              <a:ext cx="3276360" cy="3428640"/>
              <a:chOff x="838080" y="2057400"/>
              <a:chExt cx="3276360" cy="3428640"/>
            </a:xfrm>
          </p:grpSpPr>
          <p:sp>
            <p:nvSpPr>
              <p:cNvPr id="377" name="Oval 14"/>
              <p:cNvSpPr/>
              <p:nvPr/>
            </p:nvSpPr>
            <p:spPr>
              <a:xfrm>
                <a:off x="838080" y="2057400"/>
                <a:ext cx="3276360" cy="3428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9fb8cd"/>
                  </a:solidFill>
                  <a:latin typeface="Stencil"/>
                </a:endParaRPr>
              </a:p>
            </p:txBody>
          </p:sp>
          <p:sp>
            <p:nvSpPr>
              <p:cNvPr id="378" name="Line 15"/>
              <p:cNvSpPr/>
              <p:nvPr/>
            </p:nvSpPr>
            <p:spPr>
              <a:xfrm flipV="1">
                <a:off x="2476440" y="2064960"/>
                <a:ext cx="0" cy="1788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9fb8cd"/>
                  </a:solidFill>
                  <a:latin typeface="Stencil"/>
                </a:endParaRPr>
              </a:p>
            </p:txBody>
          </p:sp>
          <p:sp>
            <p:nvSpPr>
              <p:cNvPr id="379" name="Line 16"/>
              <p:cNvSpPr/>
              <p:nvPr/>
            </p:nvSpPr>
            <p:spPr>
              <a:xfrm flipV="1">
                <a:off x="2476440" y="2363040"/>
                <a:ext cx="893520" cy="149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9fb8cd"/>
                  </a:solidFill>
                  <a:latin typeface="Stencil"/>
                </a:endParaRPr>
              </a:p>
            </p:txBody>
          </p:sp>
          <p:sp>
            <p:nvSpPr>
              <p:cNvPr id="380" name="Line 17"/>
              <p:cNvSpPr/>
              <p:nvPr/>
            </p:nvSpPr>
            <p:spPr>
              <a:xfrm>
                <a:off x="2476440" y="3854160"/>
                <a:ext cx="1042200" cy="119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9fb8cd"/>
                  </a:solidFill>
                  <a:latin typeface="Stencil"/>
                </a:endParaRPr>
              </a:p>
            </p:txBody>
          </p:sp>
        </p:grpSp>
        <p:sp>
          <p:nvSpPr>
            <p:cNvPr id="381" name="Text Box 19"/>
            <p:cNvSpPr/>
            <p:nvPr/>
          </p:nvSpPr>
          <p:spPr>
            <a:xfrm>
              <a:off x="2590560" y="2514600"/>
              <a:ext cx="762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Stencil"/>
                </a:rPr>
                <a:t>7%</a:t>
              </a:r>
              <a:endParaRPr b="0" lang="en-US" sz="2800" spc="-1" strike="noStrike">
                <a:solidFill>
                  <a:srgbClr val="9fb8cd"/>
                </a:solidFill>
                <a:latin typeface="Stencil"/>
              </a:endParaRPr>
            </a:p>
          </p:txBody>
        </p:sp>
        <p:sp>
          <p:nvSpPr>
            <p:cNvPr id="382" name="Text Box 20"/>
            <p:cNvSpPr/>
            <p:nvPr/>
          </p:nvSpPr>
          <p:spPr>
            <a:xfrm>
              <a:off x="3200400" y="35049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Stencil"/>
                </a:rPr>
                <a:t>38%</a:t>
              </a:r>
              <a:endParaRPr b="0" lang="en-US" sz="2800" spc="-1" strike="noStrike">
                <a:solidFill>
                  <a:srgbClr val="9fb8cd"/>
                </a:solidFill>
                <a:latin typeface="Stencil"/>
              </a:endParaRPr>
            </a:p>
          </p:txBody>
        </p:sp>
        <p:sp>
          <p:nvSpPr>
            <p:cNvPr id="383" name="Text Box 21"/>
            <p:cNvSpPr/>
            <p:nvPr/>
          </p:nvSpPr>
          <p:spPr>
            <a:xfrm>
              <a:off x="1218960" y="3504960"/>
              <a:ext cx="78120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Stencil"/>
                </a:rPr>
                <a:t>55%</a:t>
              </a:r>
              <a:endParaRPr b="0" lang="en-US" sz="2800" spc="-1" strike="noStrike">
                <a:solidFill>
                  <a:srgbClr val="9fb8cd"/>
                </a:solidFill>
                <a:latin typeface="Stencil"/>
              </a:endParaRPr>
            </a:p>
          </p:txBody>
        </p:sp>
      </p:grpSp>
      <p:sp>
        <p:nvSpPr>
          <p:cNvPr id="384" name="Text Box 23"/>
          <p:cNvSpPr/>
          <p:nvPr/>
        </p:nvSpPr>
        <p:spPr>
          <a:xfrm>
            <a:off x="4495680" y="2743200"/>
            <a:ext cx="42674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ĶERMEŅA VALODA</a:t>
            </a:r>
            <a:r>
              <a:rPr b="1" lang="pl-PL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55%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BALSS TONIS</a:t>
            </a:r>
            <a:r>
              <a:rPr b="1" lang="pl-PL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38%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VĀ</a:t>
            </a:r>
            <a:r>
              <a:rPr b="1" lang="pl-PL" sz="4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D</a:t>
            </a:r>
            <a:r>
              <a:rPr b="1" lang="lv-LV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pl-PL" sz="4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7%</a:t>
            </a:r>
            <a:r>
              <a:rPr b="1" lang="pl-PL" sz="4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Piemērs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#1: </a:t>
            </a: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Atspoguļot domas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“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Šī ir grūta izvēl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Es nevaru izlemt vai iet uz slimnīcu neizdziedināmiem slimniekiem vai turpināt  ķīmijterapiju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"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“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Tev ir smaga izvēle starp slimnīcu neizdziedināmiem slimniekiem un ķīmijterapiju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"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Piemērs</a:t>
            </a:r>
            <a:r>
              <a:rPr b="0" lang="pl-PL" sz="3200" spc="-1" strike="noStrike">
                <a:solidFill>
                  <a:srgbClr val="464653"/>
                </a:solidFill>
                <a:latin typeface="Bookman Old Style"/>
              </a:rPr>
              <a:t> #2: </a:t>
            </a: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Atspoguļojot emocij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“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Es jūtos nomākts un izmis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Laikam esmu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akau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"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“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Tu jau kādu laiku jūties nomākts un izmis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"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Piemērs</a:t>
            </a:r>
            <a:r>
              <a:rPr b="0" lang="pl-PL" sz="3200" spc="-1" strike="noStrike">
                <a:solidFill>
                  <a:srgbClr val="464653"/>
                </a:solidFill>
                <a:latin typeface="Bookman Old Style"/>
              </a:rPr>
              <a:t> #3: </a:t>
            </a: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Atspoguļojot uzvedību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cients sāk raudā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“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Es redzu, ka tu raud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"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r>
              <a:rPr b="0" lang="pl-PL" sz="3300" spc="-1" strike="noStrike">
                <a:solidFill>
                  <a:srgbClr val="464653"/>
                </a:solidFill>
                <a:latin typeface="Bookman Old Style"/>
              </a:rPr>
              <a:t> – </a:t>
            </a:r>
            <a:r>
              <a:rPr b="0" lang="pl-PL" sz="3300" spc="-1" strike="noStrike">
                <a:solidFill>
                  <a:srgbClr val="cc0066"/>
                </a:solidFill>
                <a:latin typeface="Bookman Old Style"/>
              </a:rPr>
              <a:t>cd.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99680" y="1856880"/>
            <a:ext cx="8358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Apliecinājums un cieņ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Pacienti un ģimenes riskē, daloties ar savām emocijām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;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apstiprini un atbalsti pacientu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iemēr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ldies, ka dalījies ar savām jūtām un domā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Man ir prieks, ka tu runā ar mani par savām jūtā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Es labāk daru savu darbu kā tavs ārsts, zinot kā tu jū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Līdzjūtīga ziņkā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Esi ziņkārīgs un pieprasi vēl informāciju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: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Es gribētu zināt vairāk par šo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..;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Lūdzu, pastāsti vairāk par bēdām, ko jūti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..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57120" y="19810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Apkopo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ārfrāzē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Pārfrāzē pacienta stāstu saviem vārdiem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464653"/>
                </a:solidFill>
                <a:latin typeface="Arial"/>
              </a:rPr>
              <a:t>Pretēji atspoguļošanai, pārfrāzēšana un kopsavilkums ietver pacienta stāstījuma interpretāciju un sakoncentrēšanu . Efektīvs komentārs ir īss, bet tajā pat laikā saglabā svarīgo nozīmi un emociju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Gill Sans MT"/>
              </a:rPr>
              <a:t>„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ēs jau kādu laiku runājam par to, kā viss virzās uz priekš tev. Ļauj man apkopot to, ko tu esi teici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tad tu man varēsi pateikt vai es esmu tevi sapratis pareizi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...</a:t>
            </a:r>
            <a:r>
              <a:rPr b="0" lang="pl-PL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zveido plānu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Dažkārt pacients vienkārši grib parunāt par savām jūtām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;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citreiz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darbība ir svarīgāka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Noskaidro, ko pacients sagaida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Kā es varu palīdzēt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?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Kam, ja tā ir, būtu jāmainās, tev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?</a:t>
            </a:r>
            <a:r>
              <a:rPr b="0" lang="pl-PL" sz="2300" spc="-1" strike="noStrike">
                <a:solidFill>
                  <a:srgbClr val="464653"/>
                </a:solidFill>
                <a:latin typeface="Gill Sans MT"/>
              </a:rPr>
              <a:t>”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8.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iedāvā tikšanās turpinājumus (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atkārtotas vizītes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Es vēlētos tevi apraudzīt nākamajā nedēļā, paskatīties kā viss virzās uz priekšu. Tai pašā laikā, lūdzu, sazinies ar mani, ja tu vēlies parunāt ātrāk, labi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029"/>
          <p:cNvSpPr/>
          <p:nvPr/>
        </p:nvSpPr>
        <p:spPr>
          <a:xfrm>
            <a:off x="2436840" y="2209680"/>
            <a:ext cx="562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NEVERBĀLĀS KOMUNIKĀCIJAS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TIPI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86" name="AutoShape 1033"/>
          <p:cNvSpPr/>
          <p:nvPr/>
        </p:nvSpPr>
        <p:spPr>
          <a:xfrm>
            <a:off x="7010280" y="1071720"/>
            <a:ext cx="2133720" cy="761760"/>
          </a:xfrm>
          <a:prstGeom prst="wedgeRoundRectCallout">
            <a:avLst>
              <a:gd name="adj1" fmla="val -87944"/>
              <a:gd name="adj2" fmla="val 98125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Izskats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87" name="AutoShape 1036"/>
          <p:cNvSpPr/>
          <p:nvPr/>
        </p:nvSpPr>
        <p:spPr>
          <a:xfrm>
            <a:off x="5643720" y="285840"/>
            <a:ext cx="1752480" cy="761760"/>
          </a:xfrm>
          <a:prstGeom prst="wedgeRoundRectCallout">
            <a:avLst>
              <a:gd name="adj1" fmla="val -84509"/>
              <a:gd name="adj2" fmla="val 152083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Kā tu sakārto savu apkārtni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88" name="AutoShape 1037"/>
          <p:cNvSpPr/>
          <p:nvPr/>
        </p:nvSpPr>
        <p:spPr>
          <a:xfrm>
            <a:off x="3124080" y="304920"/>
            <a:ext cx="1600200" cy="761760"/>
          </a:xfrm>
          <a:prstGeom prst="wedgeRoundRectCallout">
            <a:avLst>
              <a:gd name="adj1" fmla="val 13097"/>
              <a:gd name="adj2" fmla="val 168541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fb8cd"/>
                </a:solidFill>
                <a:latin typeface="Times New Roman"/>
              </a:rPr>
              <a:t>  </a:t>
            </a:r>
            <a:r>
              <a:rPr b="1" lang="lv-LV" sz="2400" spc="-1" strike="noStrike">
                <a:solidFill>
                  <a:srgbClr val="0000cc"/>
                </a:solidFill>
                <a:latin typeface="Times New Roman"/>
              </a:rPr>
              <a:t>Pieskārieni</a:t>
            </a:r>
            <a:r>
              <a:rPr b="1" lang="pl-P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89" name="AutoShape 1038"/>
          <p:cNvSpPr/>
          <p:nvPr/>
        </p:nvSpPr>
        <p:spPr>
          <a:xfrm>
            <a:off x="304920" y="457200"/>
            <a:ext cx="2361960" cy="990720"/>
          </a:xfrm>
          <a:prstGeom prst="wedgeRoundRectCallout">
            <a:avLst>
              <a:gd name="adj1" fmla="val 67740"/>
              <a:gd name="adj2" fmla="val 141185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Skaņas, izņemot vārdus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90" name="AutoShape 1039"/>
          <p:cNvSpPr/>
          <p:nvPr/>
        </p:nvSpPr>
        <p:spPr>
          <a:xfrm>
            <a:off x="228600" y="2514600"/>
            <a:ext cx="1371600" cy="990720"/>
          </a:xfrm>
          <a:prstGeom prst="wedgeRoundRectCallout">
            <a:avLst>
              <a:gd name="adj1" fmla="val 129166"/>
              <a:gd name="adj2" fmla="val 1233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Ķermeņa stāja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91" name="AutoShape 1040"/>
          <p:cNvSpPr/>
          <p:nvPr/>
        </p:nvSpPr>
        <p:spPr>
          <a:xfrm>
            <a:off x="380880" y="4419720"/>
            <a:ext cx="1524240" cy="914400"/>
          </a:xfrm>
          <a:prstGeom prst="wedgeRoundRectCallout">
            <a:avLst>
              <a:gd name="adj1" fmla="val 127499"/>
              <a:gd name="adj2" fmla="val -10746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fb8cd"/>
                </a:solidFill>
                <a:latin typeface="Times New Roman"/>
              </a:rPr>
              <a:t>    </a:t>
            </a: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Žesti</a:t>
            </a:r>
            <a:r>
              <a:rPr b="1" lang="pl-P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92" name="AutoShape 1041"/>
          <p:cNvSpPr/>
          <p:nvPr/>
        </p:nvSpPr>
        <p:spPr>
          <a:xfrm>
            <a:off x="2057400" y="5410080"/>
            <a:ext cx="1600200" cy="838440"/>
          </a:xfrm>
          <a:prstGeom prst="wedgeRoundRectCallout">
            <a:avLst>
              <a:gd name="adj1" fmla="val 76189"/>
              <a:gd name="adj2" fmla="val -180870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fb8cd"/>
                </a:solidFill>
                <a:latin typeface="Times New Roman"/>
              </a:rPr>
              <a:t>    </a:t>
            </a: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Mīmika</a:t>
            </a:r>
            <a:r>
              <a:rPr b="1" lang="pl-P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93" name="AutoShape 1042"/>
          <p:cNvSpPr/>
          <p:nvPr/>
        </p:nvSpPr>
        <p:spPr>
          <a:xfrm>
            <a:off x="5105520" y="5638680"/>
            <a:ext cx="1752480" cy="762120"/>
          </a:xfrm>
          <a:prstGeom prst="wedgeRoundRectCallout">
            <a:avLst>
              <a:gd name="adj1" fmla="val -73643"/>
              <a:gd name="adj2" fmla="val -25041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Balss tonis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94" name="AutoShape 1043"/>
          <p:cNvSpPr/>
          <p:nvPr/>
        </p:nvSpPr>
        <p:spPr>
          <a:xfrm>
            <a:off x="6553080" y="4267080"/>
            <a:ext cx="2362320" cy="990720"/>
          </a:xfrm>
          <a:prstGeom prst="wedgeRoundRectCallout">
            <a:avLst>
              <a:gd name="adj1" fmla="val -80643"/>
              <a:gd name="adj2" fmla="val -76120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Attālums no citiem cilvēkiem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71760" y="1500120"/>
            <a:ext cx="7162560" cy="338580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Pro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ksēmika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– 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ir pētījums par izmērāmu attālumu starp cilvēkiem, kad tie mijiedarbojas</a:t>
            </a:r>
            <a:r>
              <a:rPr b="1" i="1" lang="pl-PL" sz="4800" spc="-1" strike="noStrike">
                <a:solidFill>
                  <a:srgbClr val="cc0066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1743120" y="614520"/>
            <a:ext cx="5657760" cy="5628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00160" y="152280"/>
            <a:ext cx="6686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64653"/>
                </a:solidFill>
                <a:latin typeface="Bookman Old Style"/>
              </a:rPr>
              <a:t>PRO</a:t>
            </a:r>
            <a:r>
              <a:rPr b="0" lang="lv-LV" sz="3200" spc="-1" strike="noStrike">
                <a:solidFill>
                  <a:srgbClr val="464653"/>
                </a:solidFill>
                <a:latin typeface="Bookman Old Style"/>
              </a:rPr>
              <a:t>KSĒMIK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00040" y="19209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īms attālums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 - apskāvienie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pieskārieniem vai čuksti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Vissvarīgākai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 s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trikt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aizsargāt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Tiek pielaisti tikai tie ar kuriem mēs esam emocionāli saistīt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 piemēram, vecāki,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laulātai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bērn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 tuvi draug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vecvecāki, u.c.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Picture 24" descr="BD06263_"/>
          <p:cNvPicPr/>
          <p:nvPr/>
        </p:nvPicPr>
        <p:blipFill>
          <a:blip r:embed="rId1"/>
          <a:stretch/>
        </p:blipFill>
        <p:spPr>
          <a:xfrm>
            <a:off x="5257800" y="4416480"/>
            <a:ext cx="3581280" cy="2401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5" descr="BD06328_"/>
          <p:cNvPicPr/>
          <p:nvPr/>
        </p:nvPicPr>
        <p:blipFill>
          <a:blip r:embed="rId2"/>
          <a:stretch/>
        </p:blipFill>
        <p:spPr>
          <a:xfrm>
            <a:off x="228600" y="228600"/>
            <a:ext cx="135576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028"/>
          <p:cNvSpPr/>
          <p:nvPr/>
        </p:nvSpPr>
        <p:spPr>
          <a:xfrm>
            <a:off x="304920" y="2209680"/>
            <a:ext cx="8534160" cy="393336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cc0066"/>
                </a:solidFill>
                <a:latin typeface="Arial"/>
              </a:rPr>
              <a:t>2. 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Person</a:t>
            </a:r>
            <a:r>
              <a:rPr b="1" lang="en-US" sz="4800" spc="-1" strike="noStrike" u="sng">
                <a:solidFill>
                  <a:srgbClr val="cc0066"/>
                </a:solidFill>
                <a:uFillTx/>
                <a:latin typeface="Arial"/>
              </a:rPr>
              <a:t>isk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ā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telpa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(46 cm – 1,2m) 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- kontaktēšanās ar draugiem vai ģimenes locekļiem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, 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citiem, labi pazīstamiem cilvēkiem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02" name="Text Box 1029"/>
          <p:cNvSpPr/>
          <p:nvPr/>
        </p:nvSpPr>
        <p:spPr>
          <a:xfrm>
            <a:off x="3000240" y="500040"/>
            <a:ext cx="414360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PRO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KSĒMI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03" name="Picture 1030" descr="BD06858_"/>
          <p:cNvPicPr/>
          <p:nvPr/>
        </p:nvPicPr>
        <p:blipFill>
          <a:blip r:embed="rId1"/>
          <a:stretch/>
        </p:blipFill>
        <p:spPr>
          <a:xfrm>
            <a:off x="228600" y="762120"/>
            <a:ext cx="1828800" cy="109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Object 1024"/>
          <p:cNvGraphicFramePr/>
          <p:nvPr/>
        </p:nvGraphicFramePr>
        <p:xfrm>
          <a:off x="6477120" y="4714920"/>
          <a:ext cx="2133360" cy="14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5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714920"/>
                    <a:ext cx="213336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11:34Z</dcterms:created>
  <dc:creator>Damian Jankowski</dc:creator>
  <dc:description/>
  <dc:language>en-US</dc:language>
  <cp:lastModifiedBy>Daina</cp:lastModifiedBy>
  <dcterms:modified xsi:type="dcterms:W3CDTF">2012-10-19T17:05:35Z</dcterms:modified>
  <cp:revision>232</cp:revision>
  <dc:subject/>
  <dc:title>KOMUNIKACJA    NIEWERBALNA</dc:title>
</cp:coreProperties>
</file>