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C42B-3D8E-42CD-A7D9-85524ED266F0}"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DCFD-58BD-4B77-A5A9-FB3B7FE04751}"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en-GB" sz="3200" spc="-1" strike="noStrike">
                <a:solidFill>
                  <a:srgbClr val="c6168d"/>
                </a:solidFill>
                <a:latin typeface="Arial Narrow"/>
              </a:rPr>
              <a:t>5</a:t>
            </a:r>
            <a:r>
              <a:rPr b="1" lang="lv-LV" sz="3200" spc="-1" strike="noStrike">
                <a:solidFill>
                  <a:srgbClr val="c6168d"/>
                </a:solidFill>
                <a:latin typeface="Arial Narrow"/>
              </a:rPr>
              <a:t>. modulis</a:t>
            </a:r>
            <a:r>
              <a:rPr b="1" lang="en-GB" sz="3200" spc="-1" strike="noStrike">
                <a:solidFill>
                  <a:srgbClr val="c6168d"/>
                </a:solidFill>
                <a:latin typeface="Arial Narrow"/>
              </a:rPr>
              <a:t>-ps</a:t>
            </a:r>
            <a:r>
              <a:rPr b="1" lang="lv-LV" sz="3200" spc="-1" strike="noStrike">
                <a:solidFill>
                  <a:srgbClr val="c6168d"/>
                </a:solidFill>
                <a:latin typeface="Arial Narrow"/>
              </a:rPr>
              <a:t>ihiatriem</a:t>
            </a:r>
            <a:r>
              <a:rPr b="1" lang="en-GB" sz="3200" spc="-1" strike="noStrike">
                <a:solidFill>
                  <a:srgbClr val="c6168d"/>
                </a:solidFill>
                <a:latin typeface="Arial Narrow"/>
              </a:rPr>
              <a:t>:</a:t>
            </a:r>
            <a:r>
              <a:rPr b="0" lang="en-GB" sz="3200" spc="-1" strike="noStrike">
                <a:solidFill>
                  <a:srgbClr val="c6168d"/>
                </a:solidFill>
                <a:latin typeface="Arial Narrow"/>
              </a:rPr>
              <a:t> 1</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fontScale="93000"/>
          </a:bodyPr>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ka jūsu pacients regulāri konsultējas ar infektologu. Ar jūsu pacienta atļauju, jūs varat informēt infektologu par konkrētā pacienta garīgajām problēmām. </a:t>
            </a:r>
            <a:endParaRPr b="0" lang="en-US" sz="2000" spc="-1" strike="noStrike">
              <a:solidFill>
                <a:srgbClr val="1b2764"/>
              </a:solidFill>
              <a:latin typeface="Lucida Sans"/>
            </a:endParaRPr>
          </a:p>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ūs varat uzzināt vairāk par pacienta psihisko stāvokli, kas ir ļoti svarīgi.Jūs varat apspriest ārstēšanu un iespējamās mijiedarbības Ir svarīgi vienam otru apzināties, pamanīt, ja ir kādas noslieces uz pašnāvību vai nelīdzestība, jūs kopā to visu varat izrunāt un risināt problēmu..</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Lai viens otru labāk iepazītu, jūs varat apmeklēt infektoloģijas klīniku, lai noskaidrotu saistību ar HIV un garīgās attīstības traucējumiem. Tas aizņems tikai laika sprīdi un dažreiz patērēs jūsu enerģiju, lai veidotu pozitīvas attiecības ar pacientu, bet jūs būsiet tuvāk izpratnei par jūsu pacienta garīgo stāvokli. Laba sadarbība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s</a:t>
            </a:r>
            <a:r>
              <a:rPr b="0" lang="en-US" sz="2400" spc="-1" strike="noStrike">
                <a:solidFill>
                  <a:srgbClr val="1b2764"/>
                </a:solidFill>
                <a:latin typeface="Lucida Sans"/>
              </a:rPr>
              <a:t>varīgi, pirmajā tikšanās reizē</a:t>
            </a:r>
            <a:r>
              <a:rPr b="0" lang="lv-LV" sz="2400" spc="-1" strike="noStrike">
                <a:solidFill>
                  <a:srgbClr val="1b2764"/>
                </a:solidFill>
                <a:latin typeface="Lucida Sans"/>
              </a:rPr>
              <a:t> </a:t>
            </a:r>
            <a:r>
              <a:rPr b="0" lang="en-US" sz="2400" spc="-1" strike="noStrike">
                <a:solidFill>
                  <a:srgbClr val="1b2764"/>
                </a:solidFill>
                <a:latin typeface="Lucida Sans"/>
              </a:rPr>
              <a:t>veido</a:t>
            </a:r>
            <a:r>
              <a:rPr b="0" lang="lv-LV" sz="2400" spc="-1" strike="noStrike">
                <a:solidFill>
                  <a:srgbClr val="1b2764"/>
                </a:solidFill>
                <a:latin typeface="Lucida Sans"/>
              </a:rPr>
              <a:t>t</a:t>
            </a:r>
            <a:r>
              <a:rPr b="0" lang="en-US" sz="2400" spc="-1" strike="noStrike">
                <a:solidFill>
                  <a:srgbClr val="1b2764"/>
                </a:solidFill>
                <a:latin typeface="Lucida Sans"/>
              </a:rPr>
              <a:t> pozitīvu un adekvātu kontaktu ar pacientu, </a:t>
            </a:r>
            <a:r>
              <a:rPr b="0" lang="lv-LV" sz="2400" spc="-1" strike="noStrike">
                <a:solidFill>
                  <a:srgbClr val="1b2764"/>
                </a:solidFill>
                <a:latin typeface="Lucida Sans"/>
              </a:rPr>
              <a:t>radot</a:t>
            </a:r>
            <a:r>
              <a:rPr b="0" lang="en-US" sz="2400" spc="-1" strike="noStrike">
                <a:solidFill>
                  <a:srgbClr val="1b2764"/>
                </a:solidFill>
                <a:latin typeface="Lucida Sans"/>
              </a:rPr>
              <a:t> </a:t>
            </a:r>
            <a:r>
              <a:rPr b="0" lang="lv-LV" sz="2400" spc="-1" strike="noStrike">
                <a:solidFill>
                  <a:srgbClr val="1b2764"/>
                </a:solidFill>
                <a:latin typeface="Lucida Sans"/>
              </a:rPr>
              <a:t>labvēlīgu</a:t>
            </a:r>
            <a:r>
              <a:rPr b="0" lang="en-US" sz="2400" spc="-1" strike="noStrike">
                <a:solidFill>
                  <a:srgbClr val="1b2764"/>
                </a:solidFill>
                <a:latin typeface="Lucida Sans"/>
              </a:rPr>
              <a:t> terapeitiskā procesa atmosfēru. </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darbība prasa fleksibilitāti no psihiatra un kapicitāti empātijas. </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us komunikācijas aspektus var paaugstināt. Labi komunikācijas vingrinājumi ir nozīmīgs mācību materiāl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rīgās veselības problēmas ir cieši saistīta</a:t>
            </a:r>
            <a:r>
              <a:rPr b="0" lang="lv-LV" sz="2000" spc="-1" strike="noStrike">
                <a:solidFill>
                  <a:srgbClr val="1b2764"/>
                </a:solidFill>
                <a:latin typeface="Lucida Sans"/>
              </a:rPr>
              <a:t>s</a:t>
            </a:r>
            <a:r>
              <a:rPr b="0" lang="en-GB" sz="2000" spc="-1" strike="noStrike">
                <a:solidFill>
                  <a:srgbClr val="1b2764"/>
                </a:solidFill>
                <a:latin typeface="Lucida Sans"/>
              </a:rPr>
              <a:t> ar HIV. Daudziem pacientiem, kuri slimo ar HIV/AIDS ir arī garīgās veselības problēmas, no viegliem simptomiem līdz pat dziļi psihiatriskām slimībām.  Ir veikti daudzi epidemioloģiskie pētījumi ar dažādiem pacientiem, kā arī </a:t>
            </a:r>
            <a:r>
              <a:rPr b="0" lang="lv-LV" sz="2000" spc="-1" strike="noStrike">
                <a:solidFill>
                  <a:srgbClr val="1b2764"/>
                </a:solidFill>
                <a:latin typeface="Lucida Sans"/>
              </a:rPr>
              <a:t>izpētītas dažādas slimības stadijas</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50 – 90% HIV inficētajiem pacientiem ir diagnosticēta vismaz viena vai vairākas garīgās saslimšanas vai psihiatriskas diagnozes.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īvas sajūtas</a:t>
            </a:r>
            <a:r>
              <a:rPr b="0" lang="en-GB" sz="2400" spc="-1" strike="noStrike">
                <a:solidFill>
                  <a:srgbClr val="1b2764"/>
                </a:solidFill>
                <a:latin typeface="Lucida Sans"/>
              </a:rPr>
              <a:t>, iekšēja trauksme un pārmērīga tieksme pēc alkohola un narkotikām, šie simptomi bieži skar ar HIV inficētos pacientu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Pacientiem ar garīgās veselības traucējumiem ir lielāka iespēja inficēties ar HIV. Cilvēkiem, kuri inficējušies ar HIV, ir lielāka iespēja saslimt ar garīgām slimībām, nekā pārējiem.</a:t>
            </a:r>
            <a:r>
              <a:rPr b="0" lang="nl-NL"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Lucida Sans"/>
              </a:rPr>
              <a:t>HIV pacientu garīgās veselības problēmas/psihiatriskās diagnozes</a:t>
            </a:r>
            <a:endParaRPr b="0" lang="en-US" sz="2400" spc="-1" strike="noStrike">
              <a:solidFill>
                <a:srgbClr val="c6168d"/>
              </a:solidFill>
              <a:latin typeface="Lucida Sans"/>
            </a:endParaRPr>
          </a:p>
        </p:txBody>
      </p:sp>
      <p:sp>
        <p:nvSpPr>
          <p:cNvPr id="96" name="PlaceHolder 2"/>
          <p:cNvSpPr>
            <a:spLocks noGrp="1"/>
          </p:cNvSpPr>
          <p:nvPr>
            <p:ph/>
          </p:nvPr>
        </p:nvSpPr>
        <p:spPr>
          <a:xfrm>
            <a:off x="302760" y="1773000"/>
            <a:ext cx="4033800" cy="416556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izjūt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itīgie ieradumi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sajūt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ārprāta lēk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apziņ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DHD</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7" name="PlaceHolder 3"/>
          <p:cNvSpPr>
            <a:spLocks noGrp="1"/>
          </p:cNvSpPr>
          <p:nvPr>
            <p:ph/>
          </p:nvPr>
        </p:nvSpPr>
        <p:spPr>
          <a:xfrm>
            <a:off x="4498560" y="1844280"/>
            <a:ext cx="4033800" cy="4094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rūtsir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omas par pašnāv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mence/plānprātīb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aptācijas traucējum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Ir daudzi iemesli, kāpēc ir svarīgi </a:t>
            </a:r>
            <a:r>
              <a:rPr b="0" lang="lv-LV" sz="2400" spc="-1" strike="noStrike">
                <a:solidFill>
                  <a:srgbClr val="1b2764"/>
                </a:solidFill>
                <a:latin typeface="Lucida Sans"/>
              </a:rPr>
              <a:t>izvērtēt</a:t>
            </a:r>
            <a:r>
              <a:rPr b="0" lang="en-US" sz="2400" spc="-1" strike="noStrike">
                <a:solidFill>
                  <a:srgbClr val="1b2764"/>
                </a:solidFill>
                <a:latin typeface="Lucida Sans"/>
              </a:rPr>
              <a:t> un ārstēt garīgās veselības problēmas HIV inficēt</a:t>
            </a:r>
            <a:r>
              <a:rPr b="0" lang="lv-LV" sz="2400" spc="-1" strike="noStrike">
                <a:solidFill>
                  <a:srgbClr val="1b2764"/>
                </a:solidFill>
                <a:latin typeface="Lucida Sans"/>
              </a:rPr>
              <a:t>ajiem</a:t>
            </a:r>
            <a:r>
              <a:rPr b="0" lang="en-US" sz="2400" spc="-1" strike="noStrike">
                <a:solidFill>
                  <a:srgbClr val="1b2764"/>
                </a:solidFill>
                <a:latin typeface="Lucida Sans"/>
              </a:rPr>
              <a:t> pacientie</a:t>
            </a:r>
            <a:r>
              <a:rPr b="0" lang="lv-LV" sz="2400" spc="-1" strike="noStrike">
                <a:solidFill>
                  <a:srgbClr val="1b2764"/>
                </a:solidFill>
                <a:latin typeface="Lucida Sans"/>
              </a:rPr>
              <a:t>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cientu labklājība un dzīves kva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Labāka HIV pacientu līdzestība un slimības prognoze,  pievēršot pastiprinātu uzmanību depresijas pazīmēm un līdzestība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airāk sniegt informāciju par narkotiku kaitīgumu un droša seksa pamatprincipie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sekss bez izsargāšanās</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Šādas psihiatriskās diagno</a:t>
            </a:r>
            <a:r>
              <a:rPr b="0" lang="lv-LV" sz="2000" spc="-1" strike="noStrike">
                <a:solidFill>
                  <a:srgbClr val="1b2764"/>
                </a:solidFill>
                <a:latin typeface="Lucida Sans"/>
              </a:rPr>
              <a:t>z</a:t>
            </a:r>
            <a:r>
              <a:rPr b="0" lang="en-US" sz="2000" spc="-1" strike="noStrike">
                <a:solidFill>
                  <a:srgbClr val="1b2764"/>
                </a:solidFill>
                <a:latin typeface="Lucida Sans"/>
              </a:rPr>
              <a:t>es un garīgās veselības problēmas ir saistītas ar nedrošu seksu. </a:t>
            </a:r>
            <a:endParaRPr b="0" lang="en-US" sz="2000" spc="-1" strike="noStrike">
              <a:solidFill>
                <a:srgbClr val="1b2764"/>
              </a:solidFill>
              <a:latin typeface="Lucida Sans"/>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s pazī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lkohol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koka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mfetam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marihuān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XTC</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s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 traucējumi, mānijas</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 tikšanās un novērošana</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pareizi novērtēt HIV pacientu,  kurš pirmo reizi pie jums ieradies. </a:t>
            </a:r>
            <a:r>
              <a:rPr b="0" lang="lv-LV" sz="2000" spc="-1" strike="noStrike">
                <a:solidFill>
                  <a:srgbClr val="1b2764"/>
                </a:solidFill>
                <a:latin typeface="Lucida Sans"/>
              </a:rPr>
              <a:t> </a:t>
            </a:r>
            <a:r>
              <a:rPr b="0" lang="en-US" sz="2000" spc="-1" strike="noStrike">
                <a:solidFill>
                  <a:srgbClr val="1b2764"/>
                </a:solidFill>
                <a:latin typeface="Lucida Sans"/>
              </a:rPr>
              <a:t>Cerams, ka jums būs pietiekami daudz laika priekš tā, varbūt jums būs nepieciešama otrreizēja apskate, lai gūtu vairāk informācijas par pacientu un uzstādītu visaptverošāku diagnozi.  Pirms uzsākt psihoterapiju, ir ļoti svarīgi saudzīgi uzņemt pacientu un uzzināt pēc iespējas vairāk informācijas par viņa saslimšanu. Kas pacientam būtu jāpajautā :</a:t>
            </a:r>
            <a:br>
              <a:rPr sz="2000"/>
            </a:br>
            <a:br>
              <a:rPr sz="2000"/>
            </a:br>
            <a:r>
              <a:rPr b="0" lang="en-US" sz="2000" spc="-1" strike="noStrike">
                <a:solidFill>
                  <a:srgbClr val="1b2764"/>
                </a:solidFill>
                <a:latin typeface="Lucida Sans"/>
              </a:rPr>
              <a:t> Psihiatrijas vēsture. Vai un kādas ir bijušas prishoterapijas ārstēšan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ģimenē ir bijušas kādas garīga rakstura slimīb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nmēr pajautāt: vai ir kādi depresijas simptomi; problēmas ar alkoholu, narkotikām, pašnāvnieciskas tieksm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 tikšanās un novērtēšana</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196640"/>
            <a:ext cx="8229600" cy="5327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 ar seksualitāti? Vai ir bijis sekss bez izsargāšanās? Vai ir kāda saistība ar garīgajām slimībā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kopš kura laika, kā pacients inficējies.  CD4 skait</a:t>
            </a:r>
            <a:r>
              <a:rPr b="0" lang="lv-LV" sz="2000" spc="-1" strike="noStrike">
                <a:solidFill>
                  <a:srgbClr val="1b2764"/>
                </a:solidFill>
                <a:latin typeface="Lucida Sans"/>
              </a:rPr>
              <a:t>s</a:t>
            </a:r>
            <a:r>
              <a:rPr b="0" lang="en-US" sz="2000" spc="-1" strike="noStrike">
                <a:solidFill>
                  <a:srgbClr val="1b2764"/>
                </a:solidFill>
                <a:latin typeface="Lucida Sans"/>
              </a:rPr>
              <a:t>, vīrusu slodze. Vai lietoti antiretrovīrusu medikamenti. Vai ir līdzestīgs ārstēšanai? Saistība ar garīgās veselības problēmām? Vai ir kādas citas medicīniskas problēmas? Vai bijusi kāda cita ārstēšana? Palūdziet atļauju kontaktēties ar infektologu, ja nepieciešam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Ģimenes vēsture, tās biogrāfiskie fakti. Vai pacients ir vienīgais bērns ģimenē, situācija (vide) ,mājās, skolā, darbā. Vai ir partnerattiecības, laulības. Seksuālā attīstība, vai ir netradicionāla orientāc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tigma un ta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o pacients sagaida no konkrētās terapijas/ ārstēšan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fontScale="99000"/>
          </a:bodyPr>
          <a:p>
            <a:pPr indent="2592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ts svarīgākais - izturēšanās pret pacienu, kurš inficējies ar HIV, nedrīkst atšķirties no  izturēšanās pret citiem pacientiem. Lai vai kā, HIV pacientu mūžs, diemžēl, izvēršas par dzīvi ar stipri stigmatizētu infekcijas slimību, bieži arī ar daudziem psihiskiem simptomiem. Tas ir stresa pilns. Bieži vien pacienti lieto zāles, kurām ir smagas </a:t>
            </a:r>
            <a:r>
              <a:rPr b="0" lang="lv-LV" sz="2400" spc="-1" strike="noStrike">
                <a:solidFill>
                  <a:srgbClr val="1b2764"/>
                </a:solidFill>
                <a:latin typeface="Lucida Sans"/>
              </a:rPr>
              <a:t>blakusparādības. Šeit vienmēr ir kaut kas īpašs.</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592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ienmēr visi domā, ka HIV v</a:t>
            </a:r>
            <a:r>
              <a:rPr b="0" lang="lv-LV" sz="2400" spc="-1" strike="noStrike">
                <a:solidFill>
                  <a:srgbClr val="1b2764"/>
                </a:solidFill>
                <a:latin typeface="Lucida Sans"/>
              </a:rPr>
              <a:t>ī</a:t>
            </a:r>
            <a:r>
              <a:rPr b="0" lang="en-US" sz="2400" spc="-1" strike="noStrike">
                <a:solidFill>
                  <a:srgbClr val="1b2764"/>
                </a:solidFill>
                <a:latin typeface="Lucida Sans"/>
              </a:rPr>
              <a:t>rus</a:t>
            </a:r>
            <a:r>
              <a:rPr b="0" lang="lv-LV" sz="2400" spc="-1" strike="noStrike">
                <a:solidFill>
                  <a:srgbClr val="1b2764"/>
                </a:solidFill>
                <a:latin typeface="Lucida Sans"/>
              </a:rPr>
              <a:t>s</a:t>
            </a:r>
            <a:r>
              <a:rPr b="0" lang="en-US" sz="2400" spc="-1" strike="noStrike">
                <a:solidFill>
                  <a:srgbClr val="1b2764"/>
                </a:solidFill>
                <a:latin typeface="Lucida Sans"/>
              </a:rPr>
              <a:t> ir tikai organismā, - viņi kļūdās, tas bieži vien iet kopsolī ar garīgās veselības traucējum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05:07Z</dcterms:modified>
  <cp:revision>372</cp:revision>
  <dc:subject/>
  <dc:title>The treatment of alcohol dependent patients with a comorbid anxiety disorder</dc:title>
</cp:coreProperties>
</file>