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7F00-89D7-482A-9D8A-A1BB46C12D3B}"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8733-E427-493D-98B6-CF3A254A57F6}"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term=%22Mackesy-Amiti%20ME%22%5BAuthor%5D" TargetMode="External"/><Relationship Id="rId2" Type="http://schemas.openxmlformats.org/officeDocument/2006/relationships/hyperlink" Target="http://www.ncbi.nlm.nih.gov/pubmed?term=%22Koblin%20BA%22%5BAuthor%5D"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lv-LV" sz="3200" spc="-1" strike="noStrike">
                <a:solidFill>
                  <a:srgbClr val="c6168d"/>
                </a:solidFill>
                <a:latin typeface="Arial Narrow"/>
              </a:rPr>
              <a:t>7. modulis – sociālie darbinieki :</a:t>
            </a:r>
            <a:r>
              <a:rPr b="0" lang="en-GB" sz="3200" spc="-1" strike="noStrike">
                <a:solidFill>
                  <a:srgbClr val="c6168d"/>
                </a:solidFill>
                <a:latin typeface="Arial Narrow"/>
              </a:rPr>
              <a:t>1</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fontScale="8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Vispārējs ievad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Vide un zināšanas</a:t>
            </a:r>
            <a:br>
              <a:rPr sz="2000"/>
            </a:br>
            <a:endParaRPr b="0" lang="en-US" sz="20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Kā sociālajam darbiniekam ir ļoti svarīgi, lai būtu labs dažādu aģentūru tīkls, kas ir saistīti ar HIV, garīgo veselību un pašpalīdzību. Lielākai daļai cilvēku ar HIV diagnozi ir svarīgi uzturēt kontaktus ar citiem HIV inficētiem cilvēkiem. Ja domubiedru grupa nepastāv Jūsu pilsētā, Jūs vienmēr varat izveidot jaunu, skatīt 3. moduli.</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ums ir nepieciešamas zināšanas par HIV ietekmi, mentālo un fizisko. Daļa no HIV inficētiem pacientiem nevar strādāt vispār vai tikai pusslodzi. Daži no tiem ir ļoti slimi pat slimības sākumā, citiem fiziskie vai garīgie traucējumi parādās pēc daudziem gadiem. Daudzi no viņiem lieto narkotikas, kas var ietekmēt līdzestību zāļu lietošanai. Stabila dzīve ar pietiekamiem naudas līdzekļiem veselīgam uzturam un mājoklim ir ļoti svarīga.</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darbība</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svarīgi regulāri informēt infektologu par Jūsu pacientu. Ar pacienta atļauju varat dod viņai/viņam informāciju par Jūsu pacienta sociālo stāvokli un garīgās veselības problēmām. Varat uzzināt vairāk par Jūsu pacienta fizisko veselību, kas arī ir svarīgi sociālajiem darbiniekiem. Svarīgi iepazīt vienam otr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 iepazīt vienam otru labāk, Jūs varat kopā apmeklēt infekcijas slimību slimnīcu. Tas aizņem laiku, un dažreiz prasa lielu enerģijas patēriņu, lai izveidotos labas attiecības, jūsu pacienta (garīgās) veselības dēļ. Laba sadarbība ir ļoti svarīga.</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munikācija</a:t>
            </a:r>
            <a:endParaRPr b="0" lang="en-US" sz="2400" spc="-1" strike="noStrike">
              <a:solidFill>
                <a:srgbClr val="c6168d"/>
              </a:solidFill>
              <a:latin typeface="Lucida Sans"/>
            </a:endParaRPr>
          </a:p>
        </p:txBody>
      </p:sp>
      <p:sp>
        <p:nvSpPr>
          <p:cNvPr id="113"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opumā veidot labu un adekvātu saskarsmi ar pacientu pirmās tikšanās laikā ir būtiski turpmākajam terapijas procesam</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a saskarsme pieprasa no sociālā darbinieka elastīgu attieksmi un lielu empātiju. Zināmi labas saskarsmes aspekti varētu būt iemācīti. Labas saskarsmes vingrinājumi ir svarīgs instruments iemācīšanās procesā.</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rīgā veselība un AIDS ir cieši saistīti. Daudziem pacientiem ar HIV/AIDS ir novērotas arī garīgas veselības problēmas, sākot ar viegliem simptomiem līdz smagām psihiatriskām slimībām. Tika veikti daudzi epidemioloģiski pētījumi par šo tematu, ļoti dažādu pacientu starpā un atšķirīgos epidemioloģiskos momentos.</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ismaz 50%, bet līdz 90% no HIV inficētiem pacientiem ir vismaz viena, vai vairākas garīgās veselības problēmas vai psihiatriskā diagnoze.</a:t>
            </a:r>
            <a:r>
              <a:rPr b="0" lang="en-GB" sz="2000" spc="-1" strike="noStrike">
                <a:solidFill>
                  <a:srgbClr val="1b2764"/>
                </a:solidFill>
                <a:latin typeface="Lucida Sans"/>
              </a:rPr>
              <a:t> </a:t>
            </a:r>
            <a:r>
              <a:rPr b="0" lang="en-GB" sz="1200" spc="-1" strike="noStrike">
                <a:solidFill>
                  <a:srgbClr val="1b2764"/>
                </a:solidFill>
                <a:latin typeface="Lucida Sans"/>
              </a:rPr>
              <a:t>(</a:t>
            </a:r>
            <a:r>
              <a:rPr b="0" lang="en-US" sz="1200" spc="-1" strike="noStrike">
                <a:solidFill>
                  <a:srgbClr val="1b2764"/>
                </a:solidFill>
                <a:latin typeface="Lucida Sans"/>
              </a:rPr>
              <a:t>Tate, 2003, Cohen,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īvas sajūtas, depresijas, atkarība un pārmērīga alkohola un narkotiku lietošana ir visbiežāk sastopamās garīgās veselības problēmas HIV inficētiem pacientiem.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lvēkiem ar garīgām veselības problēmām ir lielāks risks inficēties ar HIV. Savukārt, HIV inficētiem cilvēkiem, ir lielāks risks iegūt garīgās veselības problēmas salīdzinot ar citiem iedzīvotājiem.</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6168d"/>
                </a:solidFill>
                <a:latin typeface="Lucida Sans"/>
              </a:rPr>
              <a:t>Garīgās veselības problēmas/psihiatriskās diagnozes HIV inficētiem pacientiem</a:t>
            </a:r>
            <a:endParaRPr b="0" lang="en-US" sz="2000" spc="-1" strike="noStrike">
              <a:solidFill>
                <a:srgbClr val="c6168d"/>
              </a:solidFill>
              <a:latin typeface="Lucida Sans"/>
            </a:endParaRPr>
          </a:p>
        </p:txBody>
      </p:sp>
      <p:sp>
        <p:nvSpPr>
          <p:cNvPr id="96" name="PlaceHolder 2"/>
          <p:cNvSpPr>
            <a:spLocks noGrp="1"/>
          </p:cNvSpPr>
          <p:nvPr>
            <p:ph/>
          </p:nvPr>
        </p:nvSpPr>
        <p:spPr>
          <a:xfrm>
            <a:off x="302760" y="1197000"/>
            <a:ext cx="4033800" cy="4741920"/>
          </a:xfrm>
          <a:prstGeom prst="rect">
            <a:avLst/>
          </a:prstGeom>
          <a:noFill/>
          <a:ln w="0">
            <a:noFill/>
          </a:ln>
        </p:spPr>
        <p:txBody>
          <a:bodyPr anchor="t">
            <a:normAutofit fontScale="88000"/>
          </a:bodyPr>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DHD </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egulēšanas traucējumi (korekcijas, pielāgošanas traucējum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esija</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usma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 (nemiers, raize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s traucējum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polārie traucējum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līrijs (Murg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lānprātība, idiotism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jūtas (Depresijas izjūta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Ēšanas traucējumi</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7" name="PlaceHolder 3"/>
          <p:cNvSpPr>
            <a:spLocks noGrp="1"/>
          </p:cNvSpPr>
          <p:nvPr>
            <p:ph/>
          </p:nvPr>
        </p:nvSpPr>
        <p:spPr>
          <a:xfrm>
            <a:off x="4498560" y="1268280"/>
            <a:ext cx="4033800" cy="4670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Skum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nas izjū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ersonības traucēju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ze</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kum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nožēl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šnāvības domas</a:t>
            </a:r>
            <a:endParaRPr b="0" lang="en-US" sz="2000" spc="-1" strike="noStrike">
              <a:solidFill>
                <a:srgbClr val="1b2764"/>
              </a:solidFill>
              <a:latin typeface="Lucida Sans"/>
            </a:endParaRPr>
          </a:p>
          <a:p>
            <a:pPr lvl="2" marL="80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garīgā veselība</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daudzi iemesli kāpēc ir svarīgi novērtēt un ārstēt garīgās veselības problēmas HIV inficētiem pacientiem</a:t>
            </a:r>
            <a:r>
              <a:rPr b="0" lang="en-US" sz="2400" spc="-1" strike="noStrike">
                <a:solidFill>
                  <a:srgbClr val="1b2764"/>
                </a:solidFill>
                <a:latin typeface="Lucida Sans"/>
              </a:rPr>
              <a:t>:</a:t>
            </a:r>
            <a:br>
              <a:rPr sz="2400"/>
            </a:b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īves kvalitāte un pacienta labklāj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āka līdzestība HIV infekcijas ārstēšanai un prognoz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īstamas uzvedības samazināšana, kā arī izmaiņa, piemēram, kā nedrošs sekss un narkotiku, alkohola lietošana</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drošs sekss</a:t>
            </a:r>
            <a:endParaRPr b="0" lang="en-US" sz="2400" spc="-1" strike="noStrike">
              <a:solidFill>
                <a:srgbClr val="c6168d"/>
              </a:solidFill>
              <a:latin typeface="Lucida Sans"/>
            </a:endParaRPr>
          </a:p>
        </p:txBody>
      </p:sp>
      <p:sp>
        <p:nvSpPr>
          <p:cNvPr id="101" name="PlaceHolder 2"/>
          <p:cNvSpPr>
            <a:spLocks noGrp="1"/>
          </p:cNvSpPr>
          <p:nvPr>
            <p:ph/>
          </p:nvPr>
        </p:nvSpPr>
        <p:spPr>
          <a:xfrm>
            <a:off x="250920" y="1413000"/>
            <a:ext cx="8229600" cy="4525920"/>
          </a:xfrm>
          <a:prstGeom prst="rect">
            <a:avLst/>
          </a:prstGeom>
          <a:noFill/>
          <a:ln w="0">
            <a:noFill/>
          </a:ln>
        </p:spPr>
        <p:txBody>
          <a:bodyPr anchor="t">
            <a:normAutofit fontScale="97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ojošas psihiatriskās diagnozes un garīgās veselības problēmas ir saistītas ar nedrošu seksu </a:t>
            </a:r>
            <a:r>
              <a:rPr b="0" lang="en-GB" sz="1000" spc="-1" strike="noStrike">
                <a:solidFill>
                  <a:srgbClr val="1b2764"/>
                </a:solidFill>
                <a:latin typeface="Lucida Sans"/>
              </a:rPr>
              <a:t>(Chen, 2007, Hutton, 2008 Rogers, 2003, Hendershot 2010, </a:t>
            </a:r>
            <a:r>
              <a:rPr b="0" lang="en-US" sz="1000" spc="-1" strike="noStrike" u="sng">
                <a:solidFill>
                  <a:srgbClr val="000080"/>
                </a:solidFill>
                <a:uFillTx/>
                <a:latin typeface="Lucida Sans"/>
                <a:hlinkClick r:id="rId1"/>
              </a:rPr>
              <a:t>Mackesy-Amiti ME</a:t>
            </a:r>
            <a:r>
              <a:rPr b="0" lang="en-US" sz="1000" spc="-1" strike="noStrike">
                <a:solidFill>
                  <a:srgbClr val="1b2764"/>
                </a:solidFill>
                <a:latin typeface="Lucida Sans"/>
              </a:rPr>
              <a:t>, 2010, </a:t>
            </a:r>
            <a:r>
              <a:rPr b="0" lang="en-US" sz="1000" spc="-1" strike="noStrike" u="sng">
                <a:solidFill>
                  <a:srgbClr val="000080"/>
                </a:solidFill>
                <a:uFillTx/>
                <a:latin typeface="Lucida Sans"/>
                <a:hlinkClick r:id="rId2"/>
              </a:rPr>
              <a:t>Koblin BA</a:t>
            </a:r>
            <a:r>
              <a:rPr b="0" lang="en-US" sz="1000" spc="-1" strike="noStrike">
                <a:solidFill>
                  <a:srgbClr val="1b2764"/>
                </a:solidFill>
                <a:latin typeface="Lucida Sans"/>
              </a:rPr>
              <a:t>, 2007). :</a:t>
            </a:r>
            <a:endParaRPr b="0" lang="en-US" sz="1000" spc="-1" strike="noStrike">
              <a:solidFill>
                <a:srgbClr val="1b2764"/>
              </a:solidFill>
              <a:latin typeface="Lucida Sans"/>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jūtas (Depresijas izjūtas)</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lkohola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okaīna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mfetamīnu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arihuānas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XTC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obežlīnija personības traucējumos</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sociālie personības traucējumi</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skie traucējumi, mānija</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561600"/>
            <a:ext cx="8820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 </a:t>
            </a:r>
            <a:r>
              <a:rPr b="0" lang="lv-LV" sz="2000" spc="-1" strike="noStrike">
                <a:solidFill>
                  <a:srgbClr val="c6168d"/>
                </a:solidFill>
                <a:latin typeface="Lucida Sans"/>
              </a:rPr>
              <a:t>Pirmais pieraksts pie sociālā darbinieka un lūgums pēc palīdzības</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413000"/>
            <a:ext cx="8229600" cy="49687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as ir ļoti svarīgi veikt pienācīgu un paplašinātu novērtēšanu katram HIV inficētam pacientam kas atnāk. Cerams, jums ir pietiekami daudz laika, varbūt jums būs nepieciešama otra tikšanās, lai iegūtu pamatīgu apskatu ar pietiekami daudz informācijas visaptverošai kopainai par viņas/viņa situāciju un garīgās veselības problēmām. Pirms darba uzsākšanas ar pacientu, ir ļoti svarīgi pienācīgi saņemt un iegūt daudz informācijas. Jums arī ir nepieciešama informācija par HIV un citām medicīniskām problēmām un garīgās veselības problēmām. Kādus jautājumus Jums ir nepieciešams uzdot?</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A. </a:t>
            </a:r>
            <a:r>
              <a:rPr b="0" lang="lv-LV" sz="2000" spc="-1" strike="noStrike" u="sng">
                <a:solidFill>
                  <a:srgbClr val="1b2764"/>
                </a:solidFill>
                <a:uFillTx/>
                <a:latin typeface="Lucida Sans"/>
              </a:rPr>
              <a:t>Lūgums pēc palīdzības </a:t>
            </a:r>
            <a:br>
              <a:rPr sz="2000"/>
            </a:br>
            <a:r>
              <a:rPr b="0" lang="lv-LV" sz="2000" spc="-1" strike="noStrike">
                <a:solidFill>
                  <a:srgbClr val="1b2764"/>
                </a:solidFill>
                <a:latin typeface="Lucida Sans"/>
              </a:rPr>
              <a:t>Izzināt kāpēc viņš/viņa atnāca pie Jums. Ko viņš/viņa vēlās? Vai tas ir reāls lūgums? Kādu laiku izpētiet problēmu. Nosakiet Jūsu robežas, bet nenoraidiet šo pieprasījumu pārāk viegli.</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549360"/>
            <a:ext cx="8820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irmais pieraksts pie sociālā darbinieka un lūgums pēc palīdzības</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197000"/>
            <a:ext cx="8229600" cy="5400720"/>
          </a:xfrm>
          <a:prstGeom prst="rect">
            <a:avLst/>
          </a:prstGeom>
          <a:noFill/>
          <a:ln w="0">
            <a:noFill/>
          </a:ln>
        </p:spPr>
        <p:txBody>
          <a:bodyPr anchor="t">
            <a:normAutofit fontScale="97000"/>
          </a:bodyPr>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B. </a:t>
            </a:r>
            <a:r>
              <a:rPr b="0" lang="lv-LV" sz="2000" spc="-1" strike="noStrike" u="sng">
                <a:solidFill>
                  <a:srgbClr val="1b2764"/>
                </a:solidFill>
                <a:uFillTx/>
                <a:latin typeface="Lucida Sans"/>
              </a:rPr>
              <a:t>Praktiskā informācija</a:t>
            </a:r>
            <a:br>
              <a:rPr sz="2000"/>
            </a:br>
            <a:r>
              <a:rPr b="0" lang="en-US" sz="2000" spc="-1" strike="noStrike">
                <a:solidFill>
                  <a:srgbClr val="1b2764"/>
                </a:solidFill>
                <a:latin typeface="Lucida Sans"/>
              </a:rPr>
              <a:t>1. </a:t>
            </a:r>
            <a:r>
              <a:rPr b="0" lang="lv-LV" sz="2000" spc="-1" strike="noStrike">
                <a:solidFill>
                  <a:srgbClr val="1b2764"/>
                </a:solidFill>
                <a:latin typeface="Lucida Sans"/>
              </a:rPr>
              <a:t>. Vārds, dzimšanas datums, adrese, kontaktpersona.</a:t>
            </a:r>
            <a:br>
              <a:rPr sz="2000"/>
            </a:br>
            <a:r>
              <a:rPr b="0" lang="lv-LV" sz="2000" spc="-1" strike="noStrike">
                <a:solidFill>
                  <a:srgbClr val="1b2764"/>
                </a:solidFill>
                <a:latin typeface="Lucida Sans"/>
              </a:rPr>
              <a:t>2. Informācija par ģimeni: dzīvesbiedrs, bērni, vecāki, draugi, paziņu loks</a:t>
            </a:r>
            <a:br>
              <a:rPr sz="2000"/>
            </a:br>
            <a:r>
              <a:rPr b="0" lang="lv-LV" sz="2000" spc="-1" strike="noStrike">
                <a:solidFill>
                  <a:srgbClr val="1b2764"/>
                </a:solidFill>
                <a:latin typeface="Lucida Sans"/>
              </a:rPr>
              <a:t>3. Mājoklis, darbs, ienākumi</a:t>
            </a:r>
            <a:br>
              <a:rPr sz="2000"/>
            </a:br>
            <a:r>
              <a:rPr b="0" lang="lv-LV" sz="2000" spc="-1" strike="noStrike">
                <a:solidFill>
                  <a:srgbClr val="1b2764"/>
                </a:solidFill>
                <a:latin typeface="Lucida Sans"/>
              </a:rPr>
              <a:t>4. Skola un bērnu veselība, ja šķīrušies: vai ir kontakts ar otru vecāku?</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C. HIV</a:t>
            </a:r>
            <a:br>
              <a:rPr sz="2000"/>
            </a:br>
            <a:r>
              <a:rPr b="0" lang="en-US" sz="2000" spc="-1" strike="noStrike">
                <a:solidFill>
                  <a:srgbClr val="1b2764"/>
                </a:solidFill>
                <a:latin typeface="Lucida Sans"/>
              </a:rPr>
              <a:t>1. </a:t>
            </a:r>
            <a:r>
              <a:rPr b="0" lang="lv-LV" sz="2000" spc="-1" strike="noStrike">
                <a:solidFill>
                  <a:srgbClr val="1b2764"/>
                </a:solidFill>
                <a:latin typeface="Lucida Sans"/>
              </a:rPr>
              <a:t>. HIV: kopš kura laika</a:t>
            </a:r>
            <a:br>
              <a:rPr sz="2000"/>
            </a:br>
            <a:r>
              <a:rPr b="0" lang="lv-LV" sz="2000" spc="-1" strike="noStrike">
                <a:solidFill>
                  <a:srgbClr val="1b2764"/>
                </a:solidFill>
                <a:latin typeface="Lucida Sans"/>
              </a:rPr>
              <a:t>2. Kā inficēti</a:t>
            </a:r>
            <a:br>
              <a:rPr sz="2000"/>
            </a:br>
            <a:r>
              <a:rPr b="0" lang="lv-LV" sz="2000" spc="-1" strike="noStrike">
                <a:solidFill>
                  <a:srgbClr val="1b2764"/>
                </a:solidFill>
                <a:latin typeface="Lucida Sans"/>
              </a:rPr>
              <a:t>3. CD4-skaits, vīrusu slodze</a:t>
            </a:r>
            <a:br>
              <a:rPr sz="2000"/>
            </a:br>
            <a:r>
              <a:rPr b="0" lang="lv-LV" sz="2000" spc="-1" strike="noStrike">
                <a:solidFill>
                  <a:srgbClr val="1b2764"/>
                </a:solidFill>
                <a:latin typeface="Lucida Sans"/>
              </a:rPr>
              <a:t>4.Antiretrovīrusu medikamentu lietošana</a:t>
            </a:r>
            <a:br>
              <a:rPr sz="2000"/>
            </a:br>
            <a:r>
              <a:rPr b="0" lang="lv-LV" sz="2000" spc="-1" strike="noStrike">
                <a:solidFill>
                  <a:srgbClr val="1b2764"/>
                </a:solidFill>
                <a:latin typeface="Lucida Sans"/>
              </a:rPr>
              <a:t>5. Līdzestība zāļu lietošanai un slimnīcai? Saistība ar garīgās veselības traucējumiem? </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6. Citas veselības problēmas? Citas zāles?</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7. Stigma  un tabu</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561600"/>
            <a:ext cx="8820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irmais pieraksts pie sociālā darbinieka un lūgums pēc palīdzības</a:t>
            </a:r>
            <a:endParaRPr b="0" lang="en-US" sz="2000" spc="-1" strike="noStrike">
              <a:solidFill>
                <a:srgbClr val="c6168d"/>
              </a:solidFill>
              <a:latin typeface="Lucida Sans"/>
            </a:endParaRPr>
          </a:p>
        </p:txBody>
      </p:sp>
      <p:sp>
        <p:nvSpPr>
          <p:cNvPr id="107" name="PlaceHolder 2"/>
          <p:cNvSpPr>
            <a:spLocks noGrp="1"/>
          </p:cNvSpPr>
          <p:nvPr>
            <p:ph/>
          </p:nvPr>
        </p:nvSpPr>
        <p:spPr>
          <a:xfrm>
            <a:off x="303120" y="1628280"/>
            <a:ext cx="8229600" cy="4969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D. </a:t>
            </a:r>
            <a:r>
              <a:rPr b="0" lang="lv-LV" sz="2000" spc="-1" strike="noStrike" u="sng">
                <a:solidFill>
                  <a:srgbClr val="1b2764"/>
                </a:solidFill>
                <a:uFillTx/>
                <a:latin typeface="Lucida Sans"/>
              </a:rPr>
              <a:t>Garīgās veselības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
            </a:r>
            <a:r>
              <a:rPr b="0" lang="lv-LV" sz="2000" spc="-1" strike="noStrike">
                <a:solidFill>
                  <a:srgbClr val="1b2764"/>
                </a:solidFill>
                <a:latin typeface="Lucida Sans"/>
              </a:rPr>
              <a:t>Garīgās veselības pazīmes un simptomi. Kad tās sākas? Vai ir saistībā 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iskā anamnēze. Iepriekšēja psihoterapeitiskā ārstēšan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Ģimenes garīgo veselības problēmu anamnēze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ienmēr ir jāapspriež par depresijas simptomiem, suicīdalām tieksmēm, alkohola un narkotiku lietošan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a uzvedība? Vai ir nedrošie seksuālie kontakti? Saistībā ar garīgās veselības problēmā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a attīstība, homoseksuālism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tigma un tabu</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9:49:34Z</dcterms:modified>
  <cp:revision>373</cp:revision>
  <dc:subject/>
  <dc:title>The treatment of alcohol dependent patients with a comorbid anxiety disorder</dc:title>
</cp:coreProperties>
</file>