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5336-C356-4A89-8F82-5938AC1DB63B}" type="slidenum">
              <a:rPr b="0" lang="en-US" sz="1200" spc="-1" strike="noStrike">
                <a:solidFill>
                  <a:srgbClr val="000000"/>
                </a:solidFill>
                <a:latin typeface="Arial"/>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5660-7AC7-4AB6-9D5C-0A6932013D16}"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927D-B129-4D46-8EA1-4110DAB0C904}"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549360"/>
            <a:ext cx="8013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inficētu pacientu psihotropā ārstēšana</a:t>
            </a:r>
            <a:br>
              <a:rPr sz="2000"/>
            </a:br>
            <a:r>
              <a:rPr b="0" lang="en-US" sz="800" spc="-1" strike="noStrike">
                <a:solidFill>
                  <a:srgbClr val="c6168d"/>
                </a:solidFill>
                <a:latin typeface="Lucida Sans"/>
              </a:rPr>
              <a:t>Partly based on ´Medicatie, bijwerkingen en interacties´. D. Burger/Handboek Hiv en psychische klachten. De Tijdstroom, 2010</a:t>
            </a:r>
            <a:endParaRPr b="0" lang="en-US" sz="800" spc="-1" strike="noStrike">
              <a:solidFill>
                <a:srgbClr val="c6168d"/>
              </a:solidFill>
              <a:latin typeface="Lucida Sans"/>
            </a:endParaRPr>
          </a:p>
        </p:txBody>
      </p:sp>
      <p:sp>
        <p:nvSpPr>
          <p:cNvPr id="90" name="PlaceHolder 2"/>
          <p:cNvSpPr>
            <a:spLocks noGrp="1"/>
          </p:cNvSpPr>
          <p:nvPr>
            <p:ph/>
          </p:nvPr>
        </p:nvSpPr>
        <p:spPr>
          <a:xfrm>
            <a:off x="303120" y="126792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evad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ozitīvu pacientu ar psihisku saslimšanu kombinēto aprūpi sarežģī zāļu savstarpējās mijiedarbības parādīšanās, blakusparādību dublēšanās un ar tiem saistītais nelīdzestības risk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am, internistam un/vai (slimnīcas) farmaceitam jābūt ciešā kontaktā gan vienam ar otru, gan ar pacient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emžēl ir ļoti maz pētījumu par šiem aspektiem, par ART un psihotropo medikamentu savstarpējo mijiedarbību, tikai tiek sniegti ļoti daudzi padomi kā „ekspertu viedokli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cinājumi</a:t>
            </a:r>
            <a:br>
              <a:rPr sz="2400"/>
            </a:br>
            <a:endParaRPr b="0" lang="en-US" sz="24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o medikamentu un antiretrovirālo līdzekļu vienlaicīga lietošana var novest pie nopietnām mijiedarbībām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bā ziņa ir tāda, ka nevienam nevajag baidīties no psihotropo medikamentu negatīvās ietekmes uz antiretrovīrusu terapij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isko medikamentu ārstnieciskajā iedarbībā vispār būtu rūpīgi jāvadās pēc devas un efekta (dažreiz pamatojoties uz līmeni), lai titrētu. </a:t>
            </a:r>
            <a:r>
              <a:rPr b="0" lang="lv-LV" sz="2000" spc="-1" strike="noStrike">
                <a:solidFill>
                  <a:srgbClr val="ff0000"/>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Situācijas apraksts: 35 gadus veca sieviete </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ūs pirmo reizi redzat 35 gadus vecu sievieti. 6 gadus viņai ir HIV, un 3 no tiem viņa lieto ART. Acīm redzami, viņai ir spēcīga depresija: nomākts garastāvoklis, traucēts miegs, apetītes trūkums, anhedonija, pašnāvības domas, nespēja koncentrēties. Viņa saņem ART, bet viņa nezina, kāda veida ārstēšanu. Dažreiz viņa aizmirst lietot ART zāles, jo viņa nespēj koncentrēties. Dažreiz viņa domā: „ja es nelietošu ART, es drīz nomiršu”. Viņa ir ļoti nogurusi. Agrāk, citas depresīvas epizodes laikā pirms 4 gadiem, viņa tika lietojusi antidepresantu sertalīnu 100 mg lielās devās, kas deva labus rezultātus. Viņai nav laba kontakta ar infekciju slimību ārstu, un viņa negrib, lai jūs ar viņu sazinātos.</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Jautājumi</a:t>
            </a:r>
            <a:endParaRPr b="0" lang="en-US" sz="2400" spc="-1" strike="noStrike">
              <a:solidFill>
                <a:srgbClr val="c6168d"/>
              </a:solidFill>
              <a:latin typeface="Lucida Sans"/>
            </a:endParaRPr>
          </a:p>
        </p:txBody>
      </p:sp>
      <p:sp>
        <p:nvSpPr>
          <p:cNvPr id="112"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parakstītu šai pacientei sertralī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sazinātos ar viņas infektolog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apspriestu ar viņu ART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bildes:</a:t>
            </a:r>
            <a:br>
              <a:rPr sz="2000"/>
            </a:br>
            <a:endParaRPr b="0" lang="en-US" sz="2000" spc="-1" strike="noStrike">
              <a:solidFill>
                <a:srgbClr val="c6168d"/>
              </a:solidFill>
              <a:latin typeface="Lucida Sans"/>
            </a:endParaRPr>
          </a:p>
        </p:txBody>
      </p:sp>
      <p:sp>
        <p:nvSpPr>
          <p:cNvPr id="114" name="PlaceHolder 2"/>
          <p:cNvSpPr>
            <a:spLocks noGrp="1"/>
          </p:cNvSpPr>
          <p:nvPr>
            <p:ph/>
          </p:nvPr>
        </p:nvSpPr>
        <p:spPr>
          <a:xfrm>
            <a:off x="303120" y="1628280"/>
            <a:ext cx="8229600" cy="4310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parakstiet sertalīnu, nenoskaidrojot par viņas ART, deva var tikt samazināta vai inducēta.</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ē, jūs nedrīkstat. Jūs varat mēģināt pārliecināt pacienti par sadarbības svarīgumu. Taču ir svarīgi saglabāt labas attiecības pirmkārt ar viņu paš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apspriest jautājumu par nepieciešamību lietot ART katru dienu vienā un tai pašā laikā. Informācija par ART ir svarīga, pat ja tā paredzēta tikai psihiatriem.</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inficētu pacientu standarta ārstēšana sastāv no trīs līdzekļu kombinācijas. Bieži pamatā ir 2 nukleozīdie/ nukleotīdie reversās transkriptāzes inhibitori (NRTI), kuriem tiek pievienots trešais līdzeklis. Trešais parasti tiek atvasināts no nenukleozīdo reversās transkriptāzes inhibitoru (NNRTI, nevirapīns vai efavirenzs) vai arī no proteāzes inhibitoru klases (P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i proteāzes inhibitori var tikt pielietoti kombinācijā ar ritonaviru un otru proteāzes inhibitor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vstarpējā mijiedarbība</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ā uz savstarpējo mijiedarbību, galvenā uzmanība ir jāvērš uz NNRTI un PI. NNRTI var inducēt dažādus citohroma P450  apakšenzīmus un tas garantē CYP450 pamatu ātrāku sadalīšano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i psihiatriskie medikamenti ir CYP450 enzīmu substrāti un to ārstnieciskā iedarbība samazinās, lietojot kopā ar NNRT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roteāzes inhibitori, un it īpaši ritonavirs var dažādi iedarboties uz CYP450 enzīmiem. Ir zināms, ka daži enzīmi tiek kavēti ( ar psihotropiskās iedarbības iespējamo toksicitāti), citi tiek veicināti (iespējams psihotropisko medikamentu samazinātās iedarbības dēļ).</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a:t>
            </a:r>
            <a:r>
              <a:rPr b="0" lang="nl-NL" sz="2400" spc="-1" strike="noStrike">
                <a:solidFill>
                  <a:srgbClr val="c6168d"/>
                </a:solidFill>
                <a:latin typeface="Lucida Sans"/>
              </a:rPr>
              <a:t>, </a:t>
            </a:r>
            <a:r>
              <a:rPr b="0" lang="lv-LV" sz="2400" spc="-1" strike="noStrike">
                <a:solidFill>
                  <a:srgbClr val="c6168d"/>
                </a:solidFill>
                <a:latin typeface="Lucida Sans"/>
              </a:rPr>
              <a:t>svarīgi</a:t>
            </a:r>
            <a:r>
              <a:rPr b="0" lang="nl-NL" sz="2400" spc="-1" strike="noStrike">
                <a:solidFill>
                  <a:srgbClr val="c6168d"/>
                </a:solidFill>
                <a:latin typeface="Lucida Sans"/>
              </a:rPr>
              <a:t>!</a:t>
            </a:r>
            <a:endParaRPr b="0" lang="en-US" sz="2400" spc="-1" strike="noStrike">
              <a:solidFill>
                <a:srgbClr val="c6168d"/>
              </a:solidFill>
              <a:latin typeface="Lucida Sans"/>
            </a:endParaRPr>
          </a:p>
        </p:txBody>
      </p:sp>
      <p:sp>
        <p:nvSpPr>
          <p:cNvPr id="96" name="PlaceHolder 2"/>
          <p:cNvSpPr>
            <a:spLocks noGrp="1"/>
          </p:cNvSpPr>
          <p:nvPr>
            <p:ph/>
          </p:nvPr>
        </p:nvSpPr>
        <p:spPr>
          <a:xfrm>
            <a:off x="303120" y="2060280"/>
            <a:ext cx="8229600" cy="3878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 ziņa ir tāda, lai kā psihotropie medikamenti vispār iedarbotos, tie neietekmē HIV medikamentu līmeni (izņemot dažus pretepilepsijas kā garastāvokli stabilizējošus līdzekļus). Tie ir enzīmu CYP450 substrāti, bet tiem nav būtiskas ietekmes uz HIV medikamentu metabolis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miega zāles un nomierinošie līdzekļi</a:t>
            </a:r>
            <a:br>
              <a:rPr sz="2400"/>
            </a:br>
            <a:endParaRPr b="0" lang="en-US" sz="2400" spc="-1" strike="noStrike">
              <a:solidFill>
                <a:srgbClr val="c6168d"/>
              </a:solidFill>
              <a:latin typeface="Lucida Sans"/>
            </a:endParaRPr>
          </a:p>
        </p:txBody>
      </p:sp>
      <p:sp>
        <p:nvSpPr>
          <p:cNvPr id="9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i benzodiazepīni (midazolams, alprazolams, diazepams, prazepams, klorazepats, zopiklons) ir citohroma P450 3A (CYP3A) subenzīma pamatā</a:t>
            </a:r>
            <a:r>
              <a:rPr b="0" lang="lv-LV" sz="2000" spc="-1" strike="noStrike">
                <a:solidFill>
                  <a:srgbClr val="ff0000"/>
                </a:solidFill>
                <a:latin typeface="Lucida Sans"/>
              </a:rPr>
              <a:t>??</a:t>
            </a:r>
            <a:r>
              <a:rPr b="0" lang="lv-LV" sz="2000" spc="-1" strike="noStrike">
                <a:solidFill>
                  <a:srgbClr val="1b2764"/>
                </a:solidFill>
                <a:latin typeface="Lucida Sans"/>
              </a:rPr>
              <a:t>. To nomierinošo iedarbību izmaina HIV proteāzes inhibitori (īpaši ritonavirs) vai samazina NNR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ēlams lietot benzodiazepīnus, kuri nav (vai ir mazāk) atkarīgi no CYP3A to metabolisma dēļ, tādus kā temazepams, oksazepams, zolpidems un lorazepam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depresant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ndrīz visi antidepresanti ir CYP450 substrāti un noteikti visbiežāk lietotie līdzekļi ir no selektīvās serotonīna atpakaļsaistes inhibitoru (SSRI) grupas vai tricikliskie antidepresan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ez tam CYP3A mijiedarbība ar PI var būt par cēloni paaugstinātam antidepresantu līmenim (pēc precizētām ziņām), kamēr NNRTI var samazināt potenciālā antidepresīvā efekta līmen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 kā NNRTI ir enzīmu induktori, iespējams, ka tie var paātrināt antidepresantu metabolismu. Pacientiem, kas saņem vienlaicīgi antidepresantus un NNRTI, tas var radīt nepieciešamību pēc lielākas antidepresantu devas nekā paras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I: antikonvulsanti</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ku pa laikam kā garastāvokļa stabilizētāji tiek lietoti antikonvulsanti. Problēmu rada tas, ka daži antikovulsanti ir enzīmu induktori un daudzu HIV līdzekļu līmeņi var tikt samazināti. </a:t>
            </a:r>
            <a:br>
              <a:rPr sz="2000"/>
            </a:b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motrigīnam un valproiskābei ir mazāka negatīvā ietekme uz HIV medikamentu līmeni, un tāpēc tai ir priekšrocības attiecībā pret karbamazepīnu vai fenitoīnu. Sīkākam ieskatam aplūkojiet 2. tabul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lielākā daļa antidepresantu, antipsihotiķi ir vai nu CYP3A un/vai CYP2D6 substrāti. Tāpat kā antidepresantiem arī antipsihotiķu līmeni var pazemināt NNRTI, kamēr PI var palielināt antipsihotiķu līmen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o līdzekļu dotais šaurais terapeitiskais rādītājs un relatīvi mazās izmaiņas antipsihotiskās subterapijas iedarbībā noved pie toksiskuma.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Ir tikai ierobežoti ar antipsihotiķiem un antiretrovīrusu preparātiem saistīti pētījumi, pārāk maz, lai iegūtu uz pierādījumiem balstītas rekomendācija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alaperidols ir CYP2D6 substrāts un tāpēc šis preparāts kombinācijās ar ritonaviru saturošām shēmām ir uzmanīgi jādozē</a:t>
            </a:r>
            <a:endParaRPr b="0" lang="en-US" sz="2000" spc="-1" strike="noStrike">
              <a:solidFill>
                <a:srgbClr val="1b2764"/>
              </a:solidFill>
              <a:latin typeface="Lucida Sans"/>
            </a:endParaRPr>
          </a:p>
          <a:p>
            <a:pPr marL="343080" indent="-81000">
              <a:spcBef>
                <a:spcPts val="34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Daudzos ziņojumos ir aprakstīti gadījumi, kad vienlaicīga proteāzes inhibitoru un risperidona lietošana noved pie nopietnām nelabvēlīgām reakcijām, tādām kā ekstrapirimidālie sindromi, ļaundabīgā neiroleptiskā sindroma un pat komas </a:t>
            </a:r>
            <a:r>
              <a:rPr b="0" lang="lv-LV" sz="1400" spc="-1" strike="noStrike">
                <a:solidFill>
                  <a:srgbClr val="1b2764"/>
                </a:solidFill>
                <a:latin typeface="Lucida Sans"/>
              </a:rPr>
              <a:t>(Kelly et al 2002, Jover et al 2002, Lee et al 2000)</a:t>
            </a:r>
            <a:br>
              <a:rPr sz="1400"/>
            </a:br>
            <a:r>
              <a:rPr b="0" lang="lv-LV" sz="1400" spc="-1" strike="noStrike">
                <a:solidFill>
                  <a:srgbClr val="1b2764"/>
                </a:solidFill>
                <a:latin typeface="Lucida Sans"/>
              </a:rPr>
              <a:t> </a:t>
            </a:r>
            <a:endParaRPr b="0" lang="en-US" sz="14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ar risperidonu, arī ar kvetiapīnu un aripiprazolu ir sagaidāma līdzīga iedarbība, sākotnēji ir ieteicama par 50% mazāka deva. Taču nav pieejami klīniskie dati par aripiprazola un HIV līdzekļu vienlaicīgu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07:53:49Z</dcterms:modified>
  <cp:revision>308</cp:revision>
  <dc:subject/>
  <dc:title>Dia 1</dc:title>
</cp:coreProperties>
</file>