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0"/>
            <a:ext cx="6792840" cy="993312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33120"/>
              <a:gd name="textAreaBottom" fmla="*/ 9932760 h 9933120"/>
            </a:gdLst>
            <a:ahLst/>
            <a:rect l="textAreaLeft" t="textAreaTop" r="textAreaRight" b="textAreaBottom"/>
            <a:pathLst>
              <a:path w="21600" h="31585">
                <a:moveTo>
                  <a:pt x="5" y="0"/>
                </a:moveTo>
                <a:arcTo wR="5" hR="5" stAng="16200000" swAng="-5400000"/>
                <a:lnTo>
                  <a:pt x="0" y="31580"/>
                </a:lnTo>
                <a:arcTo wR="5" hR="5" stAng="10800000" swAng="-5400000"/>
                <a:lnTo>
                  <a:pt x="21595" y="315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0"/>
            <a:ext cx="6792840" cy="9933120"/>
          </a:xfrm>
          <a:custGeom>
            <a:avLst/>
            <a:gdLst>
              <a:gd name="textAreaLeft" fmla="*/ 360 w 6792840"/>
              <a:gd name="textAreaRight" fmla="*/ 6792480 w 6792840"/>
              <a:gd name="textAreaTop" fmla="*/ 360 h 9933120"/>
              <a:gd name="textAreaBottom" fmla="*/ 9932760 h 9933120"/>
            </a:gdLst>
            <a:ahLst/>
            <a:rect l="textAreaLeft" t="textAreaTop" r="textAreaRight" b="textAreaBottom"/>
            <a:pathLst>
              <a:path w="21600" h="31585">
                <a:moveTo>
                  <a:pt x="5" y="0"/>
                </a:moveTo>
                <a:arcTo wR="5" hR="5" stAng="16200000" swAng="-5400000"/>
                <a:lnTo>
                  <a:pt x="0" y="31580"/>
                </a:lnTo>
                <a:arcTo wR="5" hR="5" stAng="10800000" swAng="-5400000"/>
                <a:lnTo>
                  <a:pt x="21595" y="315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84984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06120" y="4718160"/>
            <a:ext cx="4978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 type="sldNum" idx="32"/>
          </p:nvPr>
        </p:nvSpPr>
        <p:spPr>
          <a:xfrm>
            <a:off x="3849480" y="94341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B4E221-380F-448F-8D7D-B1D58A38FA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3849840" y="9434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6F7B1-D708-4724-B98E-9C7102984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06480" y="471780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56BE-A9DA-4221-903F-4C8F283BC8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B85E5-DAE5-48F8-AAF7-8F0F6AD7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92D8D8-E2F0-41CE-98A6-21F4697F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7962E9-0CC2-4492-B407-DE0A30EAF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C50B5-3709-4DA3-A6B0-2301AEFC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A8E92-B1A4-4452-B60D-688459BC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4C474A-5952-48D9-8711-A5A67838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FC914A-74D2-4EF1-A0FB-BD6A88B3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E397FC-C7DE-4661-A72B-61B257D9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59F67-0E2F-4C9F-9186-89B2FCBE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A7BE26-549C-4B4C-9D72-6BB01AFAE0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52ACB3-E976-46E3-831F-C551CA900C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DCAB-0DC7-4B3A-9AE4-BE42C534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696E83-9BE9-4091-997C-3C62F85C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D15E04-5ADC-4CD8-8A9F-E74C3D46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6D1A62-997F-408D-8B73-46990E55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2B6EE7-0FA6-45FA-AE02-2FCDC4603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A3B711-D30E-458C-AE25-10A209DF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1B3760-97B1-4E4B-898A-3233CAB2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96D20C-108B-4375-83C4-FAE85E99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2BC898-A74C-4FD9-8AEB-A16C7BB5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3823CA-4044-4FEE-BA9E-52DA9EA3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003972-AC60-42E6-BC39-05808980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A824-17FD-4118-AC1B-00B445B23F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2AF49D-EB1F-450C-9982-791E92626D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B8E6C-1332-42CA-89AF-FD3833A78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06000-BAEC-4C9D-B123-03BFF08A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EC0D5-DB7B-46BB-8807-952FF3FE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56218-4B1E-4231-908A-F657B38F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47E64-4F35-4A1B-BC6B-B9B6B22B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A24CA-6182-47F3-B739-A480CC6B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D980E-3AB8-4DAB-B93B-5F18A839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B0B00-B1B4-46DC-A042-E44BB933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38ECF-3D0E-40C3-9C08-0128EBC5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B65E9-11A4-439D-B0A9-9B96FAF66C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2CAEE-2E90-41F6-B331-CA4A82AF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6A8D7-CA4E-4CCE-92EE-E8918347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28B91-86D0-4427-A955-2EC41C000B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BDEC5C-A809-4394-88C4-99A9E8DC02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610DDA-95B2-4676-9E25-5ACFF7F7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5C9A27-8A65-4ECB-A45B-4022DCCC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FE80CA-7311-4676-B2EC-938BED31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CC63AC-EE8E-42F6-A11D-00D4D915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87BCB2-DCAD-45C2-96A7-E6919C70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BD66D1-6580-40AA-8C44-F33FB242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04F3D-51EC-444A-B158-E40BD101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FBCB7C-F838-4D55-A3D9-6CAD44BD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D45563-7E84-4579-B844-A03655A9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E6963A-9D0E-4CCE-AAB3-EE8003C0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E912CA-4A3B-4602-928B-CABA2919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E2391C-A275-40B0-86AC-9E46483D64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CA87C-2771-4D21-8659-490995AD69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928285-D315-4A12-AB8D-3670926E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AF838-A6C8-47F1-AD46-6F59CC32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FDF77C-F480-4A72-8F27-D75F9F24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08282-5355-4888-A5B6-C3FF385E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9CA6F-51D8-461B-8924-BE4A58A0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A1135-A24E-4C5B-88C4-D5433B78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6E3F3-FF13-46F4-AE71-8B1FFEE4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8D2A4-3052-4A51-BBC0-E4614DC5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31CD94-59C8-4C59-BA0E-FF39ED7D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93119B-1050-45A5-83DF-DAAEC543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13298-B9D5-4D7B-BD5F-CA406FA0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939BF-BDF8-435C-B4DD-838F0FDDBF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6230F-2F71-445A-942E-37794C787F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1BA95-6526-4B82-BB80-210F1430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44AC9-E1B3-4D6C-A7F2-9B0C700F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6B96D-BD6C-40AE-916F-F77A64ED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10647-1057-4C1A-A275-BC9E0D96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BBE38-327F-4D22-A81B-6346F662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ACC00-93D9-4F59-A985-8D3B8B19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1FA94-5BDC-40D0-B9D5-A2FFC57D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48E5D-4129-4753-B433-4231007F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717D4-99EC-43CB-90E8-ADBC6C50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69F23-7EB6-451E-8217-F299A90E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8AD21-3CDA-41F4-B0E8-C56AB978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D70BD-067B-4990-8825-C52B767090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49B9B2-2C22-4525-8091-12A9FCF640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7631B-3F93-4BBF-B668-E1E2E689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18AD1F-8F41-44C2-933C-EED09B94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E9DBC1-4B59-494E-A341-B0EFC57D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6074BF-E1AA-4EE0-812B-66CB0172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3DBDA3-4CD1-4CA5-87AF-B330A23D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FC5A67-00CD-4957-8FED-48854A53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A0DBFC-EB19-493B-B708-CE6B51C3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190477-1BEF-4D54-B43B-E1FCA5A4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F97F04-1D5B-4737-9C5A-C90C37D2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D5D03A-5D93-4253-801D-7C2BEF43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8B2763-79C5-4740-B989-15105CDF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841A7-FA65-4C9A-8F8F-88BB2422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0274DE-0D54-4956-A9E8-2F3D26D23F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3F6787-4E75-4A6D-8081-A927814C8F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96BDC0-8FDE-406A-89E4-1C50AD1E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FE797C-EE92-4297-ABD4-477B77E5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09D97D-E024-4044-AE1A-A6E47C45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292C38-B44A-4939-9062-7F18BCE1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EEF4F8-1F61-484D-AC84-A8E11839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3048E9-1E40-4B1B-BCD2-E7150CAC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20ECFA7-C199-4DD2-AAB3-692F88B2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5B2BE4-B359-47C0-94D5-1C5CE109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FC4F7-EF2A-4523-B018-CD834410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86A4CA-2B5D-4E63-8159-6A3B24F8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366FB6-31B9-4DBC-8A2C-E06495FF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62EAB3-D544-41A5-9CBC-82B95A4714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E874-B056-4471-BDFB-FF3C1C62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1FDCB-8AA7-4714-B988-F18849DC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008D3-BEF5-48AB-94D0-0DC7F919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695E4-CB9D-442A-89E7-469C59FA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16D41-BCBD-423A-92D3-220FA040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C8C17-8851-43F9-8D55-A087F31694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E493C-0CFE-419F-BA4A-43F2C1781F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60D35-B88E-45C6-B1D4-97C0DCBEE3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F17F4-8779-40A5-B057-7ACA9DA124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84354-DC74-496E-B6AC-EDA3A934D5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79907-F6D9-4CD4-8AD5-91350A4150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7F6F-82EE-469F-97B5-671003A4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4E105-2AB5-49A0-84B6-9E4F22CC62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8376BF-7630-4AD3-88B3-DC03053FAE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C36A5-FB38-429F-8DA6-F1FB983D87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30987-9797-4865-BC00-CAFB0028E0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A7A1A-2D1E-48EB-BB79-564555DCE8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C91F6-933E-4AD3-8E6B-20D45B7734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853F9-378B-4575-92AD-6176949DBB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950F12-6D20-4AF5-843D-85117139C2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7553AB-0FE1-46D9-900D-497C1257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4643E-1A7B-4BCD-BF2C-0B438731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3FC4-F15B-4F1B-8565-EB44F6DB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78BC98-C633-419F-92DE-9F0BFD28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ECBA20-3698-4959-9B9C-8384FD6A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8C69E1-887B-45CA-9E0B-50FE25A2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D504B-B0BE-420F-A2E0-CB0F8B20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683F08-C05F-4FFA-AC2B-7618BEF1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D72C15-7FA4-4D24-8B6C-0B0F4642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064838-2E7C-4EE1-8BBB-FF274427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ED54E7-9833-4DCD-8714-662292F3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977520-299C-43A6-A8BC-2D701BAEFF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01A6-1EEB-4F4A-A25D-6D6BB4373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E91A-8ADB-4C21-9B04-81A45837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0CDA-F275-4721-9781-DA02B1C1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363B3-E94C-428C-8BD9-52E67C46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BBCFA-ABF5-41DE-BEC4-3BFA965C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C2EAF-BBC9-448F-B251-E9CD99E4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BA0F7-F608-457B-A482-6ED7AB5F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96F0-BC48-46F7-BC61-5B26892F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1F8C-02DF-4F68-891C-ECF05BE9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00F4A-1BB2-4DE7-BD19-30D8B67D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A6C35-803B-44DB-8FE8-9EDE4A78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1844-F9F7-4088-BE40-715501A1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187F0-320B-4EDF-93A9-3A5A723E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D7A5F-52A6-418C-93B4-1D3A91460B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E3319-38E5-4B64-9ABE-DAE1B38390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7C70DE-F198-4150-B8A9-546C6575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1DBB94-F062-436A-A318-5587CFBC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911CF-7FC4-4FAA-B59F-B33EABE8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95008-0A59-4DA7-9E1E-F9019A5D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FB3709-02DD-4686-A578-B70C2730D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F8CF1E-EFB1-4C46-ABED-F2B3527D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759A68-C4ED-44F2-B621-864F1B81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976CF-51C7-444D-87B3-4051038C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457D3-D4A5-4A86-BB89-4D287D84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2A237-51A4-4548-9001-5BB4A7D3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4E97A7-B995-4C38-AAC7-5D6D9053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3A300F-4889-4778-AE18-20539BFF2D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E73914-CA1B-46ED-93B3-BF26FFD68F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8FDC54-E7CD-44D3-9312-4485E6E1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903C4A-DE30-4F87-808F-44CE5989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C07CB5-57D4-4F67-975B-068B9C07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AE8732-55C0-4D10-83AE-77FA58EA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891408-B17D-45EF-BF4B-AA00F4DE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DECB57-3C2A-4B38-B618-1984221D5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D4407-ED86-46D0-82F0-315B3643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412BFF-B895-4355-AE15-8437D347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44F059-60E9-4AE8-B1C2-1B14E73F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0B23E9-B97F-43EC-A9DE-DED72289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51C133-E9A7-4930-8C06-847E4E30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8E7155-CAFF-4B45-9908-F42EB2AFA5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09200-3894-4C2A-B0DA-140B921C86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CE9A5-E2FF-42F9-BFA0-EB7630AC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D0A38-940F-48F8-A550-382650AC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839F2-2DC6-466B-8483-0CEF19A5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50E5A-136F-4E6C-9360-B8565BD3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4C326-3111-45DD-896F-3898A311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4000" y="-1461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5B1B3-9CAB-4D4B-97AE-A85F585F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8A22C-C0F9-43CB-80E1-E461C158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47D25-468B-4336-BC3E-4AEC9113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CDE57-3C48-4B1C-A7CB-C861D253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E1F46-B3E2-4432-A629-27F4CB01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6E610-46D3-4233-A303-3B7EC275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A04FC-A044-4DBE-A22C-671C847221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9526E-235C-4ABD-A1BD-002F4DD3BC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8F362-4504-4EDC-8863-66904E11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39EFE3-FC18-4967-82EF-83605D4E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20.04.1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9 March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67529-9535-4C44-830A-FF496400128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19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CDE413E-E570-49E0-B746-863E4BBF0F8F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1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B31803-BD69-4FC1-97D4-B011C1853822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22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sldNum" idx="23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F7FE5B-AD11-4E13-854B-6DC051C87C4C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25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A64D00D-8D42-4F2D-B7F9-11969F3E6A2A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2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sldNum" idx="27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2D491F1-87A5-4F2B-ADD2-5729CF3F8032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9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2E2D6B6-DEA6-4E51-BE72-5B1E16F78AE8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sldNum" idx="31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1A8733D-A791-4B20-B9EC-4AD744A868A1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676440" cy="644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20.04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0A29235-F137-4591-8A28-E19EA6C78E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5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DBD4823-964A-407C-A630-21A9DA695F9A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7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50078F8-8329-466D-B20B-FE74FA297E16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9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FE3D3FF-9574-4BF8-A76B-35323F70F941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1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096F185-C7F4-4176-80CD-EF738B1E470E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3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7E1C73E-3411-4B68-A4DD-9E6FEF9AD8D5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4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5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24D414-D9D1-40D2-A744-C5794D619218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142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0" y="6237360"/>
            <a:ext cx="9144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152280" y="189000"/>
            <a:ext cx="652680" cy="863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048120" y="6257880"/>
            <a:ext cx="23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cc3300"/>
                </a:solidFill>
                <a:latin typeface="Arial"/>
              </a:rPr>
              <a:t>MOH Lithuania, 26 March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000" y="-1461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v-LV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20.04.10</a:t>
            </a:r>
            <a:r>
              <a:rPr b="0" lang="en-GB" sz="12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U. Laukamm-Josten C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17"/>
          </p:nvPr>
        </p:nvSpPr>
        <p:spPr>
          <a:xfrm>
            <a:off x="6588000" y="63817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6B0D913-F9A2-4580-B008-F5B11EAB16F0}" type="slidenum">
              <a:rPr b="0" lang="en-GB" sz="1400" spc="-1" strike="noStrike">
                <a:solidFill>
                  <a:srgbClr val="cc33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0" y="620640"/>
            <a:ext cx="9144000" cy="4105440"/>
            <a:chOff x="0" y="620640"/>
            <a:chExt cx="9144000" cy="4105440"/>
          </a:xfrm>
        </p:grpSpPr>
        <p:pic>
          <p:nvPicPr>
            <p:cNvPr id="711" name="" descr=""/>
            <p:cNvPicPr/>
            <p:nvPr/>
          </p:nvPicPr>
          <p:blipFill>
            <a:blip r:embed="rId1"/>
            <a:stretch/>
          </p:blipFill>
          <p:spPr>
            <a:xfrm>
              <a:off x="0" y="692280"/>
              <a:ext cx="9144000" cy="39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0" y="620640"/>
              <a:ext cx="91440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0" y="4724280"/>
              <a:ext cx="9144000" cy="1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403280" y="1484280"/>
            <a:ext cx="66978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Arial"/>
              </a:rPr>
              <a:t>Access to Treatment and Care in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ithu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Arial"/>
              </a:rPr>
              <a:t>Draft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50920" y="115920"/>
            <a:ext cx="86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189000"/>
            <a:ext cx="125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47640" y="4819680"/>
            <a:ext cx="6400800" cy="20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World Health Organization  </a:t>
            </a:r>
            <a:br>
              <a:rPr sz="2000"/>
            </a:b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Regional Office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cc3300"/>
                </a:solidFill>
                <a:latin typeface="Arial"/>
              </a:rPr>
              <a:t>Copenh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1033200" cy="13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5A90E-4581-4B2C-B512-BD6D71DE7A9C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6932E-8119-4C18-9B11-D64917C3D563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Role of N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" y="1238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Recognise essential and vital role of NGOs to reach and advocate for key populations, e.g. 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predictable state funding for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for reliable and sustainable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Recognise role of NGOs to build trust, provide entry into health system and to ensure continued engagement with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0FE46-9975-4B31-A0FD-85EBE635F971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pidemic in 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E237A-F27B-45F5-BD4C-7DD444009D17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1"/>
          <a:stretch/>
        </p:blipFill>
        <p:spPr>
          <a:xfrm>
            <a:off x="539640" y="1311120"/>
            <a:ext cx="8147160" cy="478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9D54F-EC83-4EC6-B789-6E7C22749FAC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78673-207F-4FC7-B0EC-B83DD07790DC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s the epidemic contro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ngoing transmission among 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ajority of HIV diagnoses made in p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Documented HIV transmission in p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ontinuity of prevention services in prison not guarant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pportunities to test IDU mi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DU avoid health services because of 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264BC-8842-4CFD-98A4-4E6836625465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DAB7B-698B-42A9-8BD0-79A2FDCD87CA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ructures and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larify roles and responsibilities of different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OH to take technical supervisory role; needs enhanced capacity and budge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ed for strategic ac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eater coordination of all players, e.g. MOH, MOJ,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Opportunities to make efficiency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ntegration of financial flows, e.g. procurement of ARVs by NHIF and MOJ; procurement of laboratory tests through NH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7E478-8243-48FD-BBB8-BBB1E2C83DCA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C91302-75CC-4B74-BA5B-B12964EF1461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ccess to 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1238400"/>
            <a:ext cx="8229600" cy="55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cc3300"/>
                </a:solidFill>
                <a:latin typeface="Arial"/>
              </a:rPr>
              <a:t>Scale up access to ART to all who need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Apply a team approach, e.g. link to NGOs for adherenc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Coordinate treatment sites with each other and with other services, e.g. i</a:t>
            </a:r>
            <a:r>
              <a:rPr b="0" lang="lv-LV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ntegrate HIV, methadone maintenance therapy, T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Address barriers to treatment, e.g. ID card, service hours, need for referral, addiction reg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-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  <a:ea typeface="ＭＳ Ｐゴシック"/>
              </a:rPr>
              <a:t>Ensure treatment continuity between prisons and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189F0-9AA0-4E94-878E-C65443153581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FA911-D7E1-42B3-9FC9-EC6772301834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RT: Standards and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" y="1165320"/>
            <a:ext cx="8229600" cy="47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Update guidelines in line with most recent international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clear first and second line regimens including clear strategies for switching regim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Link guidelines, ART regimens and procurement of AR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2400" spc="-1" strike="noStrike">
                <a:solidFill>
                  <a:srgbClr val="cc3300"/>
                </a:solidFill>
                <a:latin typeface="Arial"/>
              </a:rPr>
              <a:t>Establish electronic system for patient monitoring</a:t>
            </a: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 and early warning for H</a:t>
            </a:r>
            <a:r>
              <a:rPr b="0" lang="lv-LV" sz="2400" spc="-1" strike="noStrike">
                <a:solidFill>
                  <a:srgbClr val="cc3300"/>
                </a:solidFill>
                <a:latin typeface="Arial"/>
              </a:rPr>
              <a:t>IV drug resistance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60F85-9372-4CD9-9A2A-0E762C651174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ECE6C-993C-4563-9FB9-F810350AEAD9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RV Proc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" y="123840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Move to one national medicines reimbursement list and one medicines selection process by merging the processes for out-patient reimbursement, centralized purchasing and hospital medicines procur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Continue discussions with the EU Commission in follow-up of the Bremen declaration on the approaches to increase coverage of treatment for HIV/AIDS patients in the new EU member states by increasing EU financing and reducing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to explore possibilities for price reductions (see EU pharmaceutical legislation articles 5,6, and 1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731B3-312C-4A5F-BB15-55F64F6E74B8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71B54-3493-4357-A388-8F1083757F0A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ervices for ID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" y="1238400"/>
            <a:ext cx="8229600" cy="55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mprove IDU access to HIV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mprove coverage of N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Improve coverage of 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Service providers need to accept responsibility for non-uptake of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nsure access to and continuity of treatment, care and support for 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Prepare for expected increase in number of IDU needing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D9641-3D13-4388-B82D-8C4BB2D627E4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9E9F7-1B79-42BC-A4A1-7F2DD532DBDC}" type="slidenum">
              <a:rPr b="0" lang="en-GB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4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HIV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57200" y="123840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Need for strategic governmental policy on HIV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Government should ensure procurement of tests and that they are provided for free to IDU, MSM and sex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Address legal obstacles for testing in LTCs, e.g. only doctors can tak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"/>
              </a:rPr>
              <a:t>Explore possibilities for efficiency savings on unnecessary tests, e.g. by detecting same number of HIV positive pregnant women with fewer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920" indent="44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06:43:28Z</dcterms:created>
  <dc:creator>ULJ</dc:creator>
  <dc:description/>
  <dc:language>en-US</dc:language>
  <cp:lastModifiedBy>XP</cp:lastModifiedBy>
  <dcterms:modified xsi:type="dcterms:W3CDTF">2010-03-26T14:49:11Z</dcterms:modified>
  <cp:revision>613</cp:revision>
  <dc:subject/>
  <dc:title>PowerPoint Presentation</dc:title>
</cp:coreProperties>
</file>